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-360" y="-7683840"/>
            <a:ext cx="360" cy="167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B7D-9C54-4648-9D8F-BFD84B51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25D-EE6F-4C62-87FA-1DC580D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D3E-C43D-4877-A248-65095363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359-FDE8-44D3-9482-78F2272F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7124-A4E6-4AD4-8B6A-CFAF8987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EBAC-4AA6-47B8-B6F0-384EB071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CE05-2989-4BB3-8152-BB94844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DAF-F358-4126-95B3-68B44D91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7D99-DB3B-4F48-8A1E-314B791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D0D5-4F24-442F-BCDE-E84467F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31D-7C10-4195-BE94-B10EEFA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787-E988-438B-BAA6-326CB05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093F-273E-4D12-94A4-0568A33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808-88AF-47E5-85DF-FB6D78B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973-6405-4CF5-957A-66F77CDC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DA2B-DCEC-444F-983A-874D308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AC91-3A81-457A-A9A6-A0E01BDC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98B3-9B5F-4863-9E9F-E4C7F49B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1948-B283-4B8D-A4E5-A79B7EFF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911A-CDB5-47EE-AF39-1E7F27B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70F7-C85B-4087-9C70-4EE5D918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437B-92D8-4459-A381-A063B40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8DF-FC57-4F4A-9DCB-B67B3154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F7B4-AF19-479B-BBF5-C5A0AC6D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D453-F123-4720-89D7-54B32E2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1E63-BA4A-4413-8306-0B0E0A5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7A607-5226-4B7D-A58E-CF5BCB6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13E7-5035-4F82-B5EF-766BCAD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81DE-1F5C-4340-9694-B822593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C3F8-F63D-4461-845A-DBADA846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13D6-EBB5-492A-BA00-1FD553C1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7020-D935-4207-B056-2C77BF59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1AA5-FF6E-403B-A463-47BF9E70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743-B4FB-4485-BF9B-C7440DE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8AF5-9E5A-4412-8658-B0752BA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C4DD-A0E8-44C0-BDD8-D4C6D492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2776-B09D-4D57-A286-9F2DC33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7D95-3A0F-4644-8810-7FE220F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EB64-FDC8-470D-959C-F07D1F3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6A92-8AAA-4EDC-834D-DDE20AF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3F24-3252-4A67-ADFC-BC25D47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CECB-5CBD-46D1-9FB1-20EF65AF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D6A1-EF50-4DEB-BE24-8487F96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B1F-8B02-4EA6-82D6-D9ABA55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823-907B-4202-9120-4BF78CE3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3AC-B709-4402-BE96-C8E2573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DEA-CE74-4E9F-8684-9E7DECA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1C3-5386-4E20-BC52-BA1CB9F1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BF5FA2-2808-4264-89CC-A9A7A59610C1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70768D-809E-4887-8E8E-3888654A28D5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34BA08-59E5-4FFB-80ED-235BA202130C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097D2B-09BE-49B4-AA7C-7CB8A61DF561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aude.sc.gov.br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906480"/>
            <a:ext cx="78390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9efee"/>
                </a:solidFill>
                <a:latin typeface="Comic Sans MS"/>
                <a:ea typeface="Tahoma"/>
              </a:rPr>
              <a:t>CONFERÊNCIA REGIONAL DE SAÚDE MENTAL - INTERSETORIAL</a:t>
            </a:r>
            <a:endParaRPr b="1" lang="en-US" sz="41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5280" y="4269960"/>
            <a:ext cx="754524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Valdicléia Ferreira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Psicóloga da Secretaria de Saúde de Caçador Militante da Saúde Mental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IOMERÊ – SC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Abril 2010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700" spc="-1" strike="noStrike">
                <a:solidFill>
                  <a:srgbClr val="b9efee"/>
                </a:solidFill>
                <a:latin typeface="Garamond"/>
              </a:rPr>
              <a:t>As ações de apoio matricial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0480" indent="0">
              <a:lnSpc>
                <a:spcPct val="61000"/>
              </a:lnSpc>
              <a:spcBef>
                <a:spcPts val="476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1) Responsabilidade compartilh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2) O Apoio matricial leva à construção de uma agen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ntegrad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) Atendimento conjun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b) Discussão de casos - supervis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) Criação de estratégias comuns para abordar as quest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 violência, abuso de álcool e outras drogas, entre outras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) Elaboração de um projeto terapêutico singulariz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3) Formação continu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4) Fomento das ações intersetoria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9efee"/>
                </a:solidFill>
                <a:latin typeface="Comic Sans MS"/>
              </a:rPr>
              <a:t>O apoio matricial contribui para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roca de conhecimentos e experiências para aumentar 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pacidade resolutiva das ES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sconstrução da “ambulatorização” na atenção primá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istinção entre equipes de referência e equipes matricia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omper a lógica do encaminhamen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ferências e contra-referências X vinculação e acolhi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umento do grau de responsabilização no cuid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Formação permanen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É imprescindível a formação permanente das equipes de SM e das ES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la pode se dar por meio 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ntervenções conjunt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udo e discussão de cas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Leituras compartilh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euniões sistemá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 SM na AB precisa fazer a integração com a Rede de Saúde e de Saúde Mental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ecessidade de se fazer conhecer as redes de serviços de saúde m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ssibilitar os cuidados clínicos das pessoas com transtornos mentais (frequentemente negligenciado), com acesso aos outros níveis de aten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uir a cooperação e não competição entre os serviç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abalhar na perspectiva de que a atenção básica deve ser uma das principais portas de entrada para o sistema de saúde (não a únic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Para se organizar o apoio matricial é precis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rticular a partir dos CA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mplantação dos NASF – Núcleo de Atenção à Saúde da famíli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ssoas capacitadas (conhecimento e experiência em Saúde Mental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eordenação e qualificação dos ambulatório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quipes mínimas de SM na AB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omic Sans MS"/>
              </a:rPr>
              <a:t>Saúde Mental nos Núcleos de Apoio à Saúde da Família (NASF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rt. 4º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§ 2º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ndo em vista a magnitude epidemiológica dos transtornos mentais, recomenda-se que cada Núcleo de Apoio a Saúde da Família conte com pelo menos 1  profissional da área de saúde 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úcleos de Apoio à Saúde da Família - NASF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rtaria: GM nº 154 de 01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bjetivo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mpliar o escopo das 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mentar a resolubilidade da estraté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mentar a integralidade das 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tuaçã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 forma compartilhada com a ES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ão se caracteriza em porta de entrada para a atenção primária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Modalidades de NASF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ASF 1: no mínimo 5 prof. De nível superior- vinculado no mínimo a 8 e máxim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20 Equipes SF- custeio R$ 20.000,00/ mê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ASF 2: três prof. Nível superior – vinculaods a no mínimo 03 equipes de SF- custeio R$ 6.000,00/ mê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arga horária 40 horas/sema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ATIVIDADES DOS NASF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s profissionais de cada núcleo devem identificar, em conjunto com a as equipes do SF e a comunidade, as atividades, as ações e as práticas a serem adotadas com cada área cober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zem parte da estratégia de atuação dos núcleos promover a saúde e a qualidade de vida, como estratégia de prevenção de doenç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or essa razão, destaca-se a importância da atuação multiprofissional, com professores de Educação Física e nutricionistas, entre outros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AÇÕES DOS NASF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tividades físicas e práticas corporai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educação permanente em nutrição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contribuir para a ampliação e valorização da utilização dos espaços públicos de convivênci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ções em homeopatia e acupuntur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promover ações multiprofissionais de reabilitação para reduzir a incapacidade e deficiências, permitindo a inclusão social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tender usuários e familiares em situação de risco psicossocial ou doença mental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criar estratégias para abordar problemas vinculados à violência e ao abuso de álcool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e apoiar as equipes do SF na abordagem e na atenção aos agravos severos ou persistentes na saúde de crianças e mulheres, entre outras açõ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906480"/>
            <a:ext cx="78390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ffff"/>
                </a:solidFill>
                <a:latin typeface="Comic Sans MS"/>
                <a:ea typeface="Tahoma"/>
              </a:rPr>
              <a:t>Saúde Mental na </a:t>
            </a:r>
            <a:br>
              <a:rPr sz="4500"/>
            </a:br>
            <a:r>
              <a:rPr b="0" lang="en-GB" sz="4500" spc="-1" strike="noStrike">
                <a:solidFill>
                  <a:srgbClr val="ffffff"/>
                </a:solidFill>
                <a:latin typeface="Comic Sans MS"/>
                <a:ea typeface="Tahoma"/>
              </a:rPr>
              <a:t>Atenção Básica</a:t>
            </a:r>
            <a:endParaRPr b="1" lang="en-US" sz="4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5280" y="3429000"/>
            <a:ext cx="7545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ntribuição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Sandra Vitorino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ordenadora Municipal de Saúde Mental de Joinvill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Karime Pôrto e Taciane Monteir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ordenação Nacional de Saúde Mental, Álcool e outras Droga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DAPE/SAS/M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Núcleos de Apoio à Saúde da Família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64 NASF – 3462 profissio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56 são profissionais de SM (psiquiatra, psicólogo, terapeuta ocupacional, assistente social, etc)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cessidade de capacitar os profissionais dos NASF e também da ES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ranstornos mentais gra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blemas decorrentes do uso de álcool e outras dro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Questões relacionadas à violê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xclusão social (pacientes cronificados em hospitais psiquiátricos, pessoas em prisão domiciliar, população em situação de rua, idoso em situação de abandono, crianças e adolescentes em situação de risco pessoal e social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ffff"/>
                </a:solidFill>
                <a:latin typeface="Comic Sans MS"/>
              </a:rPr>
              <a:t>Situações de risco e prioridades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Indicadores importantes para as ações de Saúde Mental na Atenção Básica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umento dos atendimentos de casos de Saúde M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dução das internações psiquiátrica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desão (mesmo que descontínua) dos pacientes e familiares ao trata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so racional de medicamen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dução de danos no uso abusivo de álcool e outras dro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Serviço Saúde Mental – Atenção Básica: etapas para cadastramento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76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ferência: Portaria SNAS nº 224/199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Gestor Municipal de Saúde encaminhará à Coordenação Estadual de Saúde Mental, via Gerência de Saúde, a solicitação de cadastramento do Serviço de Saúde Men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processo de cadastramento de Serviços Municipais de Saúde Mental são de responsabilidade do gestor estadual e deverão seguir as etapas contidas no site: </a:t>
            </a:r>
            <a:r>
              <a:rPr b="0" lang="pt-BR" sz="24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www.saude.sc.gov.br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/atenção  básica /saúde mental /como criar serviço saúde mental na  atenção bás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Serviço Saúde Mental – Atenção Básica: etapas para cadastramento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1 – Ofício de solicitação de cadastramento do Serviço feito pelo gestor municipal de saúd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2 – Projeto terapêutico (vide passo a passo no site citad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3 – Vistoria “in loco” pela Gerência de Saúde  a que pertence o municípi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4 -  Será emitido Parecer Técnico pela Gerência de Saúde e/ou Coordenação Estadual de Saúde Mental  informando ao município sobre o cadastramento do serviç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DIFICULDADES DA AB EM S.M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recursos financeiros para equipamentos, materiai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rutura física inadequad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quipe incomplet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capacitação para a equip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apoio (seja do gestor ou matricial, NASF, CAPS, etc.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Ser um serviço pouco valorizado e priorizado pela gestão municip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ecessidade da equipe de ser ouvida e respeitada tecnicamente pelos gesto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tatos em Saúde Mental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16120" y="5878440"/>
            <a:ext cx="244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8880" y="1523520"/>
            <a:ext cx="832824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oordenação de Saúde 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inistério da saú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difício Sede, 6º andar, sala 6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Brasília – D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EP 70058-9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Fone:  61 3315-3319/23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Fax: 61 3315-23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mai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audemental@saude.gov.b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312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tatos em SM no Estado de SC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16120" y="5878440"/>
            <a:ext cx="244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8880" y="1828800"/>
            <a:ext cx="832824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Coordenação Estadual  de Saúde 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lísia Pu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Policlín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Gerência de Atenção Bás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ua Esteves Jun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Fone:  48 3212-168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audemental@saude.sc.gov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0976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Comic Sans MS"/>
              </a:rPr>
              <a:t>TEMOS OU NÃO TEMOS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3% da população necessita de cuidados contínuos (transtornos mentais severos e persisten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9% precisam de atendimento eventual (transtornos mentais lev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10 a 12% da população dependente de álc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25% dos casos atendidos na AB são de S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31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56% das ESF informam realizar alguma ação de saúde mental (DAB/2001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80% dos usuários encaminhados para os especialistas de saúde mental não tem demandas específicas . Estes poderiam receber atendimento na atenção primá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233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  <a:ea typeface="Tahoma"/>
              </a:rPr>
              <a:t>Saúde Mental na Atenção Básica: apoio matricial e </a:t>
            </a:r>
            <a:br>
              <a:rPr sz="4100"/>
            </a:br>
            <a:r>
              <a:rPr b="1" lang="en-GB" sz="4100" spc="-1" strike="noStrike">
                <a:solidFill>
                  <a:srgbClr val="ffffff"/>
                </a:solidFill>
                <a:latin typeface="Comic Sans MS"/>
                <a:ea typeface="Tahoma"/>
              </a:rPr>
              <a:t>co-responsabilidade e intersetorialidade no território</a:t>
            </a:r>
            <a:r>
              <a:rPr b="1" lang="en-GB" sz="4500" spc="-1" strike="noStrike">
                <a:solidFill>
                  <a:srgbClr val="b9efee"/>
                </a:solidFill>
                <a:latin typeface="Garamond"/>
                <a:ea typeface="Tahoma"/>
              </a:rPr>
              <a:t> </a:t>
            </a:r>
            <a:endParaRPr b="1" lang="en-US" sz="4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00000" y="4314960"/>
            <a:ext cx="7545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Ampliando olhares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or Sandra Vitorino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6804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Comic Sans MS"/>
              </a:rPr>
              <a:t>Saúde Mental na Atenção Básica: 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Comic Sans MS"/>
              </a:rPr>
              <a:t>o vínculo e o diálogo necessários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Font typeface="Comic Sans MS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AB como campo potencial para a SM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Acolhimento no território - usuário é atendido onde está: atendimento da necessidade e não só da demand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Equipe multidisciplina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Intervenção a partir do contexto familiar – família como parceira no trat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Continuidade do cuidado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Potencialidades da rede sanitária e comunitária - intersetorialidad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99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Comic Sans MS"/>
              </a:rPr>
              <a:t>SM na AB: alguns princípios</a:t>
            </a:r>
            <a:endParaRPr b="1" lang="en-US" sz="4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3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Todo problema de saúde é também  - e sempre – mental e toda saúde mental é também produção de saúde”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Sofrimento psíquico associado a toda e qualquer doenç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Saúde mental é transversal pois se articula e potencializa a atenção bás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Vinculação e acolhimento como possibilidade de promoção de saúd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31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Apoio matrici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Definição: arranjo organizacional que pretende oferecer retaguarda especializada tanto assistencial como suporte pedagógico às equipes de referência (Campos &amp; Domitti, 200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Metodologia de gestão do cuid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Foi adotada em serviços de saúde mental, de atenção básica e da área hospitalar do S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b9efee"/>
                </a:solidFill>
                <a:latin typeface="Comic Sans MS"/>
              </a:rPr>
              <a:t>Diferença entre Apoio matricial e equipes de referênci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 equipe ou profissional de referência são aqueles que têm a responsabilidade pela condução de um caso individual, familiar ou comunitá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 equipe de referência visa ampliar as possibilidades de construção de vínculo entre profissionais e usuá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s equipes de apoio matricial ofertam retaguarda assistencial e pedagógica mas não devem fazer a função das equipes de referê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 V</dc:creator>
  <dc:description/>
  <dc:language>en-US</dc:language>
  <cp:lastModifiedBy>User</cp:lastModifiedBy>
  <dcterms:modified xsi:type="dcterms:W3CDTF">2010-04-14T03:26:32Z</dcterms:modified>
  <cp:revision>131</cp:revision>
  <dc:subject/>
  <dc:title>POLÍTICA NACIONAL DE SAÚDE MENTAL</dc:title>
</cp:coreProperties>
</file>