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DD10-BBC5-46CB-8A9F-085A789C6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2035-1F35-4575-921D-06816831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23B5-D9C1-4EEC-8C1F-7A3FEF47A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5D8D-029C-40E6-86A6-9E6D97E87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07C01-DC50-49A5-99AD-1EBB63AE2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20A9-AA84-4E47-8133-35443D39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1E55-AFD4-45E9-A4AB-7F233F92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6299-4F06-44F2-BAD7-02A68628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AAC7-245A-4D87-A0C1-060BA1D8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00AB-50F1-450D-B47A-4531AB56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654B-3DF2-4290-954A-E88F7F93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EDAD-DB42-4BD9-9A9C-91C6F8BA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58FE-A429-4309-BA94-251B4A02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BDCD2-6732-4253-80B0-1DF724B1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6315-E161-4EDB-88C5-6D3BD998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3570-74F0-4277-81B9-8413FBD49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37A4-3C5D-421C-A0B0-C317DAB7A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A870F-E0B1-4D36-9CC7-0355826A9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D4666-8BAB-4A47-B8C9-E841BB52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305A0-0819-431A-855D-D1C34C32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7A786-80B6-4A5E-ADC4-FFC3EEE8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4405D-A55E-40A7-8301-B5C750AF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510E-BCD1-45C1-BAEB-E0AEB495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6ADFA-5356-4907-AC8F-86F50548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D09B4-C44B-4C9D-A3C1-0DF1CC86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66AE6-9920-47E3-9634-0F16FDD9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A8CDC-B893-473E-9A4A-641B902F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AD1E4-B087-4664-A6EC-DE645AC2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25E6F-DF49-4072-BBEB-A3CFC41D8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FDE8E-4047-4B59-B79E-D6857D5F2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76285-E057-42A8-9712-5AC8A1A06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7F617-9111-4845-880B-C2B3E9D1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B1AF8-73D7-419D-A45C-6664DFBF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F5F6-B3BE-4E72-91AF-5C611893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65F81-995C-4A12-BCF4-BDFA2C8B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83E4D-F5F2-4E39-8976-E331AD40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F880A-8601-48A8-800C-33E99D37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1F241-127C-45C4-8990-911713CD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12C6D-5B05-494F-BC7E-089E9E17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E8340-739A-4A9A-B68E-DAD3D7EA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B59B6-A676-49CA-9B80-9298E53E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8E768-1A2E-43FC-9A57-E675D3FEB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ACA33-3F51-423E-86EA-19B188275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07AB5-73DD-4968-9BF7-448B729C2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E738-4DBF-4FD4-8DCD-49EBA356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59AE6-0C67-442D-8588-DDC5EA43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28C60-E666-46F8-8B9F-AEC2FA73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D24A8-0AC3-4C40-A5A5-442D56A7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BB124-2F28-4113-9709-743A3169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22275-D4E3-4134-B969-088C9A87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C2211-3F7C-4BF2-B14F-6D5C715E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12B78-EEA7-4149-872F-225E823C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3B52C-F0B2-4370-80C6-B827CC32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E5E5C-1975-4116-98D7-CD887BF7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05258-B4FA-4AEB-A241-76DA8CA15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C20B-8A78-4CDE-996B-DE30F39B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B6C9C-BF3C-4C5E-937C-1EA2D3269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C1BBF-B536-4E69-A7F9-021693FF9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E8CA9-735F-4C27-9841-6F33C986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F5984-E4BB-4D96-BC64-ABF2BDF4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DD995-8280-428A-A5FB-DA2B2B0D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BF8EC-4C9A-4234-AFF5-F70576BD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3C880-0F60-4218-ACDE-B1F12965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3EA7E-9B5C-42D1-981E-EE6BCC2E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F68EF-5B48-4E81-8252-80632B65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98E80-03A9-49E9-8258-B35E920E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C37B-59D3-429E-939E-B810B184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5785B-2ABD-45F0-A403-87530BF1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11C3F-B12D-4188-A26D-FFBF0CEBE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8D2BD-7A5B-4757-8D41-8439ECD50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193CB-CB18-46DE-89D3-498D63805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0BDA5-AD41-4C6D-AFC2-F82B7CE1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C5545-801C-4387-ADA2-A5CCEE60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1F2F4-C3BB-4660-AB33-F28899DB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E7B0E-32D6-4C8C-B91E-549E2D46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5DF9E-C793-4726-A46E-0B0EBCD5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081C3-26DA-4036-91BA-64E78103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66CB-45B6-4093-9D2F-CDF5685B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D8AFC-B8FE-4E0D-8C86-9B8F0DE5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AEB2D-D295-469A-AA78-F73008E0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30DA0-85F6-4EED-BDE3-36C51134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E2F73-A120-4978-8360-FE861C9AF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B3453-55FA-4F99-954A-B14A22CE2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53D89-D229-46E3-BCCB-3DA79871F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40DA1-6C5A-4ECB-841B-545817B3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13713-EC36-4526-B4FF-99B46A9B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6F6AF-75E7-4CE0-8810-C5B00FF9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D5D3A-BFA2-44BD-8AC2-6973422F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E8F2-7002-4C51-8153-ADB2E86E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0F69D-0CB5-40CC-AFCA-CC2D4E18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46518-190E-49BA-B9D9-56370C27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3367F-0B27-42EA-9881-DD04C927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E1308-6E4A-47DD-8B91-22B5EF7E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57661-3627-4083-813F-13E51DA0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C6CA0-3A38-48F9-A0A5-DA1E600F8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9D9D4-0957-494A-87CE-00013E142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a liv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a liv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Triângulo retângu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iângulo retângulo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Conector reto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BC78-575D-48F5-9BA7-A207ED45758F}" type="slidenum">
              <a:rPr b="0" lang="pt-B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iângulo retângulo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o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orma livre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orma livre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orma livre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orma livre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Conector reto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927E-FDB8-49AA-8316-8AE2F324254F}" type="slidenum">
              <a:rPr b="0" lang="pt-BR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rma liv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rma liv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Triângulo retângu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Triângulo retângulo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Conector reto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Divisa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ivisa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5481-A0CF-4CA0-B385-6CBCB32A5E43}" type="slidenum">
              <a:rPr b="0" lang="pt-B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rma liv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rma liv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Triângulo retângu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Triângulo retângulo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Conector reto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B1EB-A36E-48CF-B6A3-F164ED0ACF2C}" type="slidenum">
              <a:rPr b="0" lang="pt-B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5672-AD4D-43A6-8E3C-E48DD1F3E466}" type="slidenum">
              <a:rPr b="0" lang="pt-B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rma liv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rma liv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Triângulo retângu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Triângulo retângulo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Conector reto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62EA-C8E3-4D6C-8AC5-6D2FC68F6406}" type="slidenum">
              <a:rPr b="0" lang="pt-B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4A7B-DE35-4D5E-8BCC-C5D79BB2CD09}" type="slidenum">
              <a:rPr b="0" lang="pt-B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rma livre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rma livre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Triângulo retângulo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Triângulo retângulo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Conector reto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Divisa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Divisa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A433-7ECE-4A36-9325-A2B36C240106}" type="slidenum">
              <a:rPr b="0" lang="pt-BR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3" descr="D:\fotos saúde\SO000208.jpg"/>
          <p:cNvPicPr/>
          <p:nvPr/>
        </p:nvPicPr>
        <p:blipFill>
          <a:blip r:embed="rId1"/>
          <a:stretch/>
        </p:blipFill>
        <p:spPr>
          <a:xfrm>
            <a:off x="500040" y="285840"/>
            <a:ext cx="1714680" cy="4572000"/>
          </a:xfrm>
          <a:prstGeom prst="rect">
            <a:avLst/>
          </a:prstGeom>
          <a:ln w="0">
            <a:noFill/>
          </a:ln>
        </p:spPr>
      </p:pic>
      <p:pic>
        <p:nvPicPr>
          <p:cNvPr id="371" name="Título 1" descr=""/>
          <p:cNvPicPr/>
          <p:nvPr/>
        </p:nvPicPr>
        <p:blipFill>
          <a:blip r:embed="rId2"/>
          <a:stretch/>
        </p:blipFill>
        <p:spPr>
          <a:xfrm>
            <a:off x="682560" y="3565440"/>
            <a:ext cx="7931160" cy="169560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999720" y="961560"/>
            <a:ext cx="7715160" cy="1752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Lucida Sans Unicode"/>
              </a:rPr>
              <a:t>SAUDE MENTAL – DIREITO E COMPROMISSO DE TODOS: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Lucida Sans Unicode"/>
              </a:rPr>
              <a:t>CONSOLIDAR AVANÇOS E ENFRENTAR DESAFIOS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12" descr=""/>
          <p:cNvPicPr/>
          <p:nvPr/>
        </p:nvPicPr>
        <p:blipFill>
          <a:blip r:embed="rId1"/>
          <a:stretch/>
        </p:blipFill>
        <p:spPr>
          <a:xfrm>
            <a:off x="5695920" y="2571840"/>
            <a:ext cx="3233880" cy="40003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500040" y="1332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000000"/>
                </a:solidFill>
                <a:latin typeface="Lucida Sans Unicode"/>
              </a:rPr>
              <a:t>Caps I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0960" indent="-2102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Interação entre psicóticos e dependentes químicos;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000000"/>
                </a:solidFill>
                <a:latin typeface="Lucida Sans Unicode"/>
              </a:rPr>
              <a:t>Caps II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0960" indent="-2102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Alta médica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0960" indent="-2102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Perfil (neuroses)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0960" indent="-2102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INSS (piora)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0960" indent="-2102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Depressão – incapacidade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0960" indent="-2102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Internações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ítulo 2" descr=""/>
          <p:cNvPicPr/>
          <p:nvPr/>
        </p:nvPicPr>
        <p:blipFill>
          <a:blip r:embed="rId2"/>
          <a:stretch/>
        </p:blipFill>
        <p:spPr>
          <a:xfrm>
            <a:off x="201600" y="353880"/>
            <a:ext cx="8491680" cy="10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6" descr="D:\fotos saúde\SO000218.jpg"/>
          <p:cNvPicPr/>
          <p:nvPr/>
        </p:nvPicPr>
        <p:blipFill>
          <a:blip r:embed="rId1"/>
          <a:stretch/>
        </p:blipFill>
        <p:spPr>
          <a:xfrm>
            <a:off x="4929120" y="2643120"/>
            <a:ext cx="3946680" cy="394668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457200" y="903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000000"/>
                </a:solidFill>
                <a:latin typeface="Lucida Sans Unicode"/>
              </a:rPr>
              <a:t>Caps III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7080" indent="-212400">
              <a:lnSpc>
                <a:spcPct val="15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Tornou-se hospital psiquiátrico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7080" indent="-212400">
              <a:lnSpc>
                <a:spcPct val="15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Doentes incuráveis associais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7080" indent="-212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23% moradores de rua do Brasil, 30 a 70% nos EUA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7080" indent="-212400">
              <a:lnSpc>
                <a:spcPct val="15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Medicações de depósito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7080" indent="-212400">
              <a:lnSpc>
                <a:spcPct val="15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Fora do hospital geral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000000"/>
                </a:solidFill>
                <a:latin typeface="Lucida Sans Unicode"/>
              </a:rPr>
              <a:t>Sem equipe técnica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000000"/>
                </a:solidFill>
                <a:latin typeface="Lucida Sans Unicode"/>
              </a:rPr>
              <a:t>Comorbidade 80%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Fobia social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Depressão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Deficit de atenção e hiperatividade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Esquizofrenia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Título 3" descr=""/>
          <p:cNvPicPr/>
          <p:nvPr/>
        </p:nvPicPr>
        <p:blipFill>
          <a:blip r:embed="rId1"/>
          <a:stretch/>
        </p:blipFill>
        <p:spPr>
          <a:xfrm>
            <a:off x="231840" y="396720"/>
            <a:ext cx="8717040" cy="15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0640" indent="-228600">
              <a:lnSpc>
                <a:spcPct val="15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Bipolar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5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Transtorno de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Personalidade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5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TOC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5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Pânico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Picture 2" descr="http://biologiaecologia1globalwarming.files.wordpress.com/2009/11/bipolar.jpg"/>
          <p:cNvPicPr/>
          <p:nvPr/>
        </p:nvPicPr>
        <p:blipFill>
          <a:blip r:embed="rId1"/>
          <a:stretch/>
        </p:blipFill>
        <p:spPr>
          <a:xfrm>
            <a:off x="4643280" y="785880"/>
            <a:ext cx="407700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500040" y="1617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Manipulados (má qualidade - ABP)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Genéricos (bioequivalência)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Básicos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000000"/>
                </a:solidFill>
                <a:latin typeface="Lucida Sans Unicode"/>
              </a:rPr>
              <a:t>Remédios básicos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Ácido valpróico 250mg (xarope)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Nortriptilina 25mg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6840" y="50004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88360" indent="-201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Amitriptilina 25mg (comprimidos)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288360" indent="-201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Levodopa e carbidopa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288360" indent="-201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Carbamazepina 200mg (comprimidos)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288360" indent="-201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Carbonato de lítio 300mg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288360" indent="-201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Pramadol 50mg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288360" indent="-201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Clomipramina 25mg (comprimidos)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288360" indent="-201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Cloridrato de biperideno 2mg (comp.)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288360" indent="-201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Diazepam 5mg (comprimidos)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Fenitoína 100mg (comprimidos)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Fenobarbital 100mg (comprimidos)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Fluoxetina 20mg (comprimidos)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Haloperidol 5mg (comprimidos)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385920" y="16178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Esquizofrenia refratária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TB, TOC, depressão, demência, outras psicoses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Clozapina, quetiapina, olanzapina, ziprasidona, risperidona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Demência – revastigmina, galantamina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57176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Longevidade – degenerativas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Precocidade – crianças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Drogas – crack, metanfetaminas (internações)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Depressão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Era de Aquário (Peixe-Aquário) –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2000 anos.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4" descr="fogueira"/>
          <p:cNvPicPr/>
          <p:nvPr/>
        </p:nvPicPr>
        <p:blipFill>
          <a:blip r:embed="rId1">
            <a:grayscl/>
          </a:blip>
          <a:stretch/>
        </p:blipFill>
        <p:spPr>
          <a:xfrm>
            <a:off x="4141800" y="0"/>
            <a:ext cx="500220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50004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Nau dos loucos (</a:t>
            </a:r>
            <a:r>
              <a:rPr b="0" lang="pt-BR" sz="3300" spc="-1" strike="noStrike">
                <a:solidFill>
                  <a:srgbClr val="ffffff"/>
                </a:solidFill>
                <a:latin typeface="Lucida Sans Unicode"/>
              </a:rPr>
              <a:t>vazão aos d</a:t>
            </a: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oent</a:t>
            </a:r>
            <a:r>
              <a:rPr b="0" lang="pt-BR" sz="3300" spc="-1" strike="noStrike">
                <a:solidFill>
                  <a:srgbClr val="ffffff"/>
                </a:solidFill>
                <a:latin typeface="Lucida Sans Unicode"/>
              </a:rPr>
              <a:t>es)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Possuído pelo d</a:t>
            </a:r>
            <a:r>
              <a:rPr b="0" lang="pt-BR" sz="3300" spc="-1" strike="noStrike">
                <a:solidFill>
                  <a:srgbClr val="ffffff"/>
                </a:solidFill>
                <a:latin typeface="Lucida Sans Unicode"/>
              </a:rPr>
              <a:t>iabo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Bruxaria (queim</a:t>
            </a:r>
            <a:r>
              <a:rPr b="0" lang="pt-BR" sz="3300" spc="-1" strike="noStrike">
                <a:solidFill>
                  <a:srgbClr val="ffffff"/>
                </a:solidFill>
                <a:latin typeface="Lucida Sans Unicode"/>
              </a:rPr>
              <a:t>ado na fog</a:t>
            </a: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ueir</a:t>
            </a:r>
            <a:r>
              <a:rPr b="0" lang="pt-BR" sz="3300" spc="-1" strike="noStrike">
                <a:solidFill>
                  <a:srgbClr val="ffffff"/>
                </a:solidFill>
                <a:latin typeface="Lucida Sans Unicode"/>
              </a:rPr>
              <a:t>a)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1409 – Renascen</a:t>
            </a:r>
            <a:r>
              <a:rPr b="0" lang="pt-BR" sz="3300" spc="-1" strike="noStrike">
                <a:solidFill>
                  <a:srgbClr val="ffffff"/>
                </a:solidFill>
                <a:latin typeface="Lucida Sans Unicode"/>
              </a:rPr>
              <a:t>ça – Igreja </a:t>
            </a: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Cat</a:t>
            </a:r>
            <a:r>
              <a:rPr b="0" lang="pt-BR" sz="3300" spc="-1" strike="noStrike">
                <a:solidFill>
                  <a:srgbClr val="ffffff"/>
                </a:solidFill>
                <a:latin typeface="Lucida Sans Unicode"/>
              </a:rPr>
              <a:t>ólica </a:t>
            </a: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– 1</a:t>
            </a:r>
            <a:r>
              <a:rPr b="0" lang="pt-BR" sz="3300" spc="-1" strike="noStrike" baseline="30000">
                <a:solidFill>
                  <a:srgbClr val="000000"/>
                </a:solidFill>
                <a:latin typeface="Lucida Sans Unicode"/>
              </a:rPr>
              <a:t>o </a:t>
            </a: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hospício – (h</a:t>
            </a:r>
            <a:r>
              <a:rPr b="0" lang="pt-BR" sz="3300" spc="-1" strike="noStrike">
                <a:solidFill>
                  <a:srgbClr val="ffffff"/>
                </a:solidFill>
                <a:latin typeface="Lucida Sans Unicode"/>
              </a:rPr>
              <a:t>ospedage</a:t>
            </a: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m)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Valência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Doente mental v</a:t>
            </a:r>
            <a:r>
              <a:rPr b="0" lang="pt-BR" sz="3300" spc="-1" strike="noStrike">
                <a:solidFill>
                  <a:srgbClr val="ffffff"/>
                </a:solidFill>
                <a:latin typeface="Lucida Sans Unicode"/>
              </a:rPr>
              <a:t>isto de f</a:t>
            </a: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orma</a:t>
            </a:r>
            <a:r>
              <a:rPr b="0" lang="pt-BR" sz="3300" spc="-1" strike="noStrike">
                <a:solidFill>
                  <a:srgbClr val="ffffff"/>
                </a:solidFill>
                <a:latin typeface="Lucida Sans Unicode"/>
              </a:rPr>
              <a:t> relativa </a:t>
            </a: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à razão.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E:\saúde mental\timthumb.jpg"/>
          <p:cNvPicPr/>
          <p:nvPr/>
        </p:nvPicPr>
        <p:blipFill>
          <a:blip r:embed="rId1"/>
          <a:stretch/>
        </p:blipFill>
        <p:spPr>
          <a:xfrm>
            <a:off x="5429160" y="2286000"/>
            <a:ext cx="3457800" cy="380988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500040" y="500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91960" indent="-20448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1821 – Vila dos loucos – Bélgica (6500) – população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1950 – Clorpromazina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1957 – Imipramina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1949 – Lítio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1957 – Clordiazepóxido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1961 – Valium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636480"/>
            <a:ext cx="8229600" cy="55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Década de 50 – classificação (CID)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1977 – Franco Basaglia – Triest Itália (antipsiquiatria)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Psiquiatria (se não existe loucura não pode existir hospital para loucos)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1980 – hospitais psiquiátricos – reforma psiquiátrica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6840" y="642600"/>
            <a:ext cx="8472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Nos últimos 20 anos: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Fechamento de 70% dos leitos psiquiátricos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Popularização dos Caps (1500)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Lucida Sans Unicode"/>
              </a:rPr>
              <a:t>Caps I, II, III, AD, infantil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Em 1941 – 5,8 leitos – 10 mil hab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Em 2005 – 2,5 leitos – 10 mil hab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E:\saúde mental\depressao3.jpg"/>
          <p:cNvPicPr/>
          <p:nvPr/>
        </p:nvPicPr>
        <p:blipFill>
          <a:blip r:embed="rId1"/>
          <a:stretch/>
        </p:blipFill>
        <p:spPr>
          <a:xfrm>
            <a:off x="4357800" y="2286000"/>
            <a:ext cx="4597200" cy="421488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Hoje temos 35 mil leitos psiquiátricos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21% da população tem transtornos mentais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Ideal 0,45 por mil habitantes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0,23 em algumas regiões;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571680"/>
            <a:ext cx="832968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Compensar ala psiquiátrica -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(instituição inserida  no hospital geral,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internação breve) e Caps III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Doença mental </a:t>
            </a:r>
            <a:r>
              <a:rPr b="0" i="1" lang="pt-BR" sz="3300" spc="-1" strike="noStrike">
                <a:solidFill>
                  <a:srgbClr val="000000"/>
                </a:solidFill>
                <a:latin typeface="Lucida Sans Unicode"/>
              </a:rPr>
              <a:t>versus </a:t>
            </a: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remédio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Psicose (bipolar, esquizofrenia)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Dependências químicas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Neuroses (depressão, TOC, pânico)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Demência 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689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000000"/>
                </a:solidFill>
                <a:latin typeface="Lucida Sans Unicode"/>
              </a:rPr>
              <a:t>Crise psicótica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Esquizofrenia, bipolar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Depressão no idoso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Abstinência e abuso de álcool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Psicose por crack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000000"/>
                </a:solidFill>
                <a:latin typeface="Lucida Sans Unicode"/>
              </a:rPr>
              <a:t>Remédio </a:t>
            </a:r>
            <a:r>
              <a:rPr b="1" i="1" lang="pt-BR" sz="3300" spc="-1" strike="noStrike">
                <a:solidFill>
                  <a:srgbClr val="000000"/>
                </a:solidFill>
                <a:latin typeface="Lucida Sans Unicode"/>
              </a:rPr>
              <a:t>versus </a:t>
            </a:r>
            <a:r>
              <a:rPr b="1" lang="pt-BR" sz="3300" spc="-1" strike="noStrike">
                <a:solidFill>
                  <a:srgbClr val="000000"/>
                </a:solidFill>
                <a:latin typeface="Lucida Sans Unicode"/>
              </a:rPr>
              <a:t>internação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Mesmo sob medicação psicotizam.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ítulo 2" descr=""/>
          <p:cNvPicPr/>
          <p:nvPr/>
        </p:nvPicPr>
        <p:blipFill>
          <a:blip r:embed="rId1"/>
          <a:stretch/>
        </p:blipFill>
        <p:spPr>
          <a:xfrm>
            <a:off x="85680" y="371520"/>
            <a:ext cx="8491680" cy="1208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" descr="E:\saúde mental\bipolar2.jpg"/>
          <p:cNvPicPr/>
          <p:nvPr/>
        </p:nvPicPr>
        <p:blipFill>
          <a:blip r:embed="rId2"/>
          <a:stretch/>
        </p:blipFill>
        <p:spPr>
          <a:xfrm>
            <a:off x="5954760" y="1143000"/>
            <a:ext cx="29750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5" descr="D:\fotos saúde\77005886.jpg"/>
          <p:cNvPicPr/>
          <p:nvPr/>
        </p:nvPicPr>
        <p:blipFill>
          <a:blip r:embed="rId1"/>
          <a:stretch/>
        </p:blipFill>
        <p:spPr>
          <a:xfrm>
            <a:off x="3929040" y="1424160"/>
            <a:ext cx="5005440" cy="500508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Excelente idéia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Socialização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Diminuição das internações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Proximidade com familiares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Equipe multidisciplinar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ítulo 2" descr=""/>
          <p:cNvPicPr/>
          <p:nvPr/>
        </p:nvPicPr>
        <p:blipFill>
          <a:blip r:embed="rId2"/>
          <a:stretch/>
        </p:blipFill>
        <p:spPr>
          <a:xfrm>
            <a:off x="201600" y="353880"/>
            <a:ext cx="8491680" cy="13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23:40:06Z</dcterms:created>
  <dc:creator>ACER</dc:creator>
  <dc:description/>
  <dc:language>en-US</dc:language>
  <cp:lastModifiedBy>ACER</cp:lastModifiedBy>
  <dcterms:modified xsi:type="dcterms:W3CDTF">2010-04-14T00:45:41Z</dcterms:modified>
  <cp:revision>9</cp:revision>
  <dc:subject/>
  <dc:title>Dr Marcos Antonio Henning – CRM 6672 Psiquiatra pela Associação Brasileira de Psiquiatria Título de Especialista em Psiquiatria Forense – ABP </dc:title>
</cp:coreProperties>
</file>