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7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-360" y="-7683840"/>
            <a:ext cx="360" cy="167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1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Text Box 1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1"/>
          <p:cNvSpPr/>
          <p:nvPr/>
        </p:nvSpPr>
        <p:spPr>
          <a:xfrm>
            <a:off x="1143000" y="69516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A94B-0DCE-4A74-8C90-25CE0BC44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B081-145F-41B9-BEAB-A90255E21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DDAB-690F-49F8-BD6A-0BC904A0D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071C-D35F-40AC-8E1C-EACDE8288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52074-1E00-49A0-9447-9C9535BF3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CF550-DE88-4AC7-A6ED-37F11B800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BCCEA-93D9-43C2-B889-3D4CB6C1E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34E40-F223-4636-8DEF-A9B094D54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6306E-D96B-4D20-8D51-AB04B5B25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57A68-51F3-43EE-A625-C2CF754C0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0C901-8F26-49A0-8893-39CC87EC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60CB-8CEA-41CA-89EC-183D61AAF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24476-8DC7-4BE7-A93D-98151D248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2697A-D416-44AC-852B-E24147060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2D800-8806-4B98-A4DF-6D6F9BCAE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E7AFF-DED5-4BFD-A820-3C0BA2905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79925-B76F-4481-B15D-A3B778349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98C1F-0B88-4FCA-BF20-14A46C6D0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2CA175-D721-46B1-ADE6-DEEDFC20F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85100-7D48-4350-B8B3-97C7A808C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82AB9-E891-4C4C-A9CC-03FE01695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4E780-F6E2-4AA8-A2FA-7B23CA9AD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0813-D044-4785-BAF2-FCC32C1FD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AA170-8674-429F-9947-9145D0702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96798-ABE1-45A1-B3E3-42AC28AFA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83D22-0A6D-4AAA-B52B-3AA74F74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5777F-B6F5-47D3-8B41-2EF876F52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636C1B-ECCD-4B41-9320-9992AA1FF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3443D-F521-4D40-8579-B2F2C4CCF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40C36-F427-4350-9394-5575FC559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ABBBE-9CD3-4DBC-AB26-EF3D2A38E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A4F8C-AD5B-4C1E-8A5D-E9CB0AF21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85F3D-3F0E-44CF-8E45-E49E69DD1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649B-EC11-49E4-8C39-4D01D56D3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BEEB9-BF82-404F-88DE-638C4C86E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1346A-A471-4D5D-B3BF-8430BBF86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03D07-C239-43CB-AB86-C5F38AB58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FA5893-0AF2-41E0-9337-8B6303705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26B08-148C-423F-A2DB-8AD50F198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6A60A-F161-4585-9F5A-F36609B7D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95CDC-38B0-45F0-B14E-E8D51BE71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2EDC5-AE4E-45F7-9CEE-7EA40226B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3C531-0562-4534-9CC7-C55360944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7D48-BF59-49D6-A0E3-DE43EFC96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F87F-D929-470B-BDDF-3002BC838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6B50-D6EE-4D4F-A508-B1A77FB08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498B-7975-438F-B289-5A4F69E9B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078D-140E-4222-A999-3BEA32C08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66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66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66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66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66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66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66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66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66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6666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66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66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66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66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A15340C-3047-498F-A8D8-9D726CF1793D}" type="slidenum">
              <a:rPr b="0" lang="pt-BR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66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66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66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66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66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66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66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66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66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66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6666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66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66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66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66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E170DEC-5577-4F2E-9922-AED821FAFCBD}" type="slidenum">
              <a:rPr b="0" lang="pt-BR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14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66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66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66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66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66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66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66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66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66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66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6666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66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66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66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66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6FC2AA2-0F33-4A19-8AC8-6185356BDE68}" type="slidenum">
              <a:rPr b="0" lang="pt-BR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71" name="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6666"/>
                </a:gs>
                <a:gs pos="100000">
                  <a:srgbClr val="005f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6666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66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66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66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66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66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66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66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66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66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0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6666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66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e767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66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2d87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66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66"/>
                </a:solidFill>
                <a:latin typeface="Arial"/>
              </a:endParaRPr>
            </a:p>
          </p:txBody>
        </p:sp>
      </p:grp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pt-BR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894AC4E-EDCA-4B84-A76E-3AB0246995FB}" type="slidenum">
              <a:rPr b="0" lang="pt-BR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aude.sc.gov.br/" TargetMode="Externa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94920" y="906480"/>
            <a:ext cx="783900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b9efee"/>
                </a:solidFill>
                <a:latin typeface="Comic Sans MS"/>
                <a:ea typeface="Tahoma"/>
              </a:rPr>
              <a:t>CONFERÊNCIA REGIONAL DE SAÚDE MENTAL - INTERSETORIAL</a:t>
            </a:r>
            <a:endParaRPr b="1" lang="en-US" sz="41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755280" y="4269960"/>
            <a:ext cx="7545240" cy="11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ffffff"/>
                </a:solidFill>
                <a:latin typeface="Comic Sans MS"/>
              </a:rPr>
              <a:t>Valdicléia Ferreira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ffffff"/>
                </a:solidFill>
                <a:latin typeface="Comic Sans MS"/>
              </a:rPr>
              <a:t>Psicóloga da Secretaria de Saúde de Caçador Militante da Saúde Mental 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ffffff"/>
                </a:solidFill>
                <a:latin typeface="Comic Sans MS"/>
              </a:rPr>
              <a:t>IOMERÊ – SC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ffffff"/>
                </a:solidFill>
                <a:latin typeface="Comic Sans MS"/>
              </a:rPr>
              <a:t>Abril 2010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700" spc="-1" strike="noStrike">
                <a:solidFill>
                  <a:srgbClr val="b9efee"/>
                </a:solidFill>
                <a:latin typeface="Garamond"/>
              </a:rPr>
              <a:t>As ações de apoio matricial</a:t>
            </a:r>
            <a:endParaRPr b="1" lang="en-US" sz="47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510480" indent="0">
              <a:lnSpc>
                <a:spcPct val="61000"/>
              </a:lnSpc>
              <a:spcBef>
                <a:spcPts val="476"/>
              </a:spcBef>
              <a:buNone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Garamond"/>
            </a:endParaRPr>
          </a:p>
          <a:p>
            <a:pPr marL="510480" indent="-510480">
              <a:lnSpc>
                <a:spcPct val="61000"/>
              </a:lnSpc>
              <a:spcBef>
                <a:spcPts val="550"/>
              </a:spcBef>
              <a:buClr>
                <a:srgbClr val="00ff99"/>
              </a:buClr>
              <a:buFont typeface="Comic Sans MS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1) Responsabilidade compartilhad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10480" indent="0">
              <a:lnSpc>
                <a:spcPct val="61000"/>
              </a:lnSpc>
              <a:spcBef>
                <a:spcPts val="550"/>
              </a:spcBef>
              <a:buNone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10480" indent="-510480">
              <a:lnSpc>
                <a:spcPct val="61000"/>
              </a:lnSpc>
              <a:spcBef>
                <a:spcPts val="550"/>
              </a:spcBef>
              <a:buClr>
                <a:srgbClr val="00ff99"/>
              </a:buClr>
              <a:buFont typeface="Comic Sans MS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2) O Apoio matricial leva à construção de uma agenda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10480" indent="0">
              <a:lnSpc>
                <a:spcPct val="61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integrada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10480" indent="0">
              <a:lnSpc>
                <a:spcPct val="61000"/>
              </a:lnSpc>
              <a:spcBef>
                <a:spcPts val="550"/>
              </a:spcBef>
              <a:buNone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10480" indent="-510480">
              <a:lnSpc>
                <a:spcPct val="61000"/>
              </a:lnSpc>
              <a:spcBef>
                <a:spcPts val="550"/>
              </a:spcBef>
              <a:buClr>
                <a:srgbClr val="00ff99"/>
              </a:buClr>
              <a:buSzPct val="75000"/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a) Atendimento conjunto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10480" indent="0">
              <a:lnSpc>
                <a:spcPct val="61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10480" indent="-510480">
              <a:lnSpc>
                <a:spcPct val="61000"/>
              </a:lnSpc>
              <a:spcBef>
                <a:spcPts val="550"/>
              </a:spcBef>
              <a:buClr>
                <a:srgbClr val="00ff99"/>
              </a:buClr>
              <a:buSzPct val="75000"/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b) Discussão de casos - supervisã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10480" indent="0">
              <a:lnSpc>
                <a:spcPct val="61000"/>
              </a:lnSpc>
              <a:spcBef>
                <a:spcPts val="550"/>
              </a:spcBef>
              <a:buNone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10480" indent="-510480">
              <a:lnSpc>
                <a:spcPct val="61000"/>
              </a:lnSpc>
              <a:spcBef>
                <a:spcPts val="550"/>
              </a:spcBef>
              <a:buClr>
                <a:srgbClr val="00ff99"/>
              </a:buClr>
              <a:buSzPct val="75000"/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c) Criação de estratégias comuns para abordar as questõ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10480" indent="0">
              <a:lnSpc>
                <a:spcPct val="61000"/>
              </a:lnSpc>
              <a:spcBef>
                <a:spcPts val="550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de violência, abuso de álcool e outras drogas, entre outras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10480" indent="0">
              <a:lnSpc>
                <a:spcPct val="61000"/>
              </a:lnSpc>
              <a:spcBef>
                <a:spcPts val="550"/>
              </a:spcBef>
              <a:buNone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10480" indent="-510480">
              <a:lnSpc>
                <a:spcPct val="61000"/>
              </a:lnSpc>
              <a:spcBef>
                <a:spcPts val="550"/>
              </a:spcBef>
              <a:buClr>
                <a:srgbClr val="00ff99"/>
              </a:buClr>
              <a:buSzPct val="75000"/>
              <a:buFont typeface="Arial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d) Elaboração de um projeto terapêutico singularizad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10480" indent="0">
              <a:lnSpc>
                <a:spcPct val="61000"/>
              </a:lnSpc>
              <a:spcBef>
                <a:spcPts val="550"/>
              </a:spcBef>
              <a:buNone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10480" indent="-510480">
              <a:lnSpc>
                <a:spcPct val="61000"/>
              </a:lnSpc>
              <a:spcBef>
                <a:spcPts val="550"/>
              </a:spcBef>
              <a:buClr>
                <a:srgbClr val="ffffff"/>
              </a:buClr>
              <a:buFont typeface="Comic Sans MS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3) Formação continuad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10480" indent="0">
              <a:lnSpc>
                <a:spcPct val="61000"/>
              </a:lnSpc>
              <a:spcBef>
                <a:spcPts val="550"/>
              </a:spcBef>
              <a:buNone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10480" indent="-510480">
              <a:lnSpc>
                <a:spcPct val="61000"/>
              </a:lnSpc>
              <a:spcBef>
                <a:spcPts val="550"/>
              </a:spcBef>
              <a:buClr>
                <a:srgbClr val="ffffff"/>
              </a:buClr>
              <a:buFont typeface="Comic Sans MS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4) Fomento das ações intersetoriai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10480" indent="0">
              <a:lnSpc>
                <a:spcPct val="61000"/>
              </a:lnSpc>
              <a:spcBef>
                <a:spcPts val="550"/>
              </a:spcBef>
              <a:buNone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10480" indent="0">
              <a:lnSpc>
                <a:spcPct val="61000"/>
              </a:lnSpc>
              <a:spcBef>
                <a:spcPts val="550"/>
              </a:spcBef>
              <a:buNone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b9efee"/>
                </a:solidFill>
                <a:latin typeface="Comic Sans MS"/>
              </a:rPr>
              <a:t>O apoio matricial contribui para: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00ff99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Troca de conhecimentos e experiências para aumentar a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1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capacidade resolutiva das ESF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1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00ff99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Desconstrução da “ambulatorização” na atenção primári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1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00ff99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Distinção entre equipes de referência e equipes matriciai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1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00ff99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Romper a lógica do encaminhamento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1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00ff99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Referências e contra-referências X vinculação e acolhiment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1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Clr>
                <a:srgbClr val="00ff99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Aumento do grau de responsabilização no cuidad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1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Comic Sans MS"/>
              </a:rPr>
              <a:t>Formação permanent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É imprescindível a formação permanente das equipes de SM e das ESF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Ela pode se dar por meio de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SzPct val="75000"/>
              <a:buFont typeface="Garamond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Intervenções conjunta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SzPct val="75000"/>
              <a:buFont typeface="Garamond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Estudo e discussão de caso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SzPct val="75000"/>
              <a:buFont typeface="Garamond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Leituras compartilhada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SzPct val="75000"/>
              <a:buFont typeface="Garamond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Reuniões sistemática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91440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A SM na AB precisa fazer a integração com a Rede de Saúde e de Saúde Mental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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Necessidade de se fazer conhecer as redes de serviços de saúde menta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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Possibilitar os cuidados clínicos das pessoas com transtornos mentais (frequentemente negligenciado), com acesso aos outros níveis de atençã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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Construir a cooperação e não competição entre os serviço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"/>
              <a:tabLst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Trabalhar na perspectiva de que a atenção básica deve ser uma das principais portas de entrada para o sistema de saúde (não a única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Comic Sans MS"/>
              </a:rPr>
              <a:t>Para se organizar o apoio matricial é preciso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Articular a partir dos CAP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Implantação dos NASF – Núcleo de Atenção à Saúde da família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Pessoas capacitadas (conhecimento e experiência em Saúde Mental)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Reordenação e qualificação dos ambulatórios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Equipes mínimas de SM na AB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b9efee"/>
                </a:solidFill>
                <a:latin typeface="Comic Sans MS"/>
              </a:rPr>
              <a:t>Saúde Mental nos Núcleos de Apoio à Saúde da Família (NASF)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Font typeface="Comic Sans MS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mic Sans MS"/>
              </a:rPr>
              <a:t>Art. 4º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§ 2º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  <a:ea typeface="Arial"/>
              </a:rPr>
              <a:t>Tendo em vista a magnitude epidemiológica dos transtornos mentais, recomenda-se que cada Núcleo de Apoio a Saúde da Família conte com pelo menos 1  profissional da área de saúde mental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Núcleos de Apoio à Saúde da Família - NASF</a:t>
            </a:r>
            <a:endParaRPr b="1" lang="en-US" sz="28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8440" indent="-568440">
              <a:lnSpc>
                <a:spcPct val="100000"/>
              </a:lnSpc>
              <a:spcBef>
                <a:spcPts val="649"/>
              </a:spcBef>
              <a:buClr>
                <a:srgbClr val="00ff99"/>
              </a:buClr>
              <a:buSzPct val="75000"/>
              <a:buFont typeface="Wingdings" charset="2"/>
              <a:buChar char=""/>
              <a:tabLst>
                <a:tab algn="l" pos="1138320"/>
                <a:tab algn="l" pos="2052720"/>
                <a:tab algn="l" pos="2967120"/>
                <a:tab algn="l" pos="3881520"/>
                <a:tab algn="l" pos="4795920"/>
                <a:tab algn="l" pos="5710320"/>
                <a:tab algn="l" pos="6624720"/>
                <a:tab algn="l" pos="7539120"/>
                <a:tab algn="l" pos="8453520"/>
                <a:tab algn="l" pos="9367920"/>
                <a:tab algn="l" pos="102823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Portaria: GM nº 154 de 01/2008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68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1138320"/>
                <a:tab algn="l" pos="2052720"/>
                <a:tab algn="l" pos="2967120"/>
                <a:tab algn="l" pos="3881520"/>
                <a:tab algn="l" pos="4795920"/>
                <a:tab algn="l" pos="5710320"/>
                <a:tab algn="l" pos="6624720"/>
                <a:tab algn="l" pos="7539120"/>
                <a:tab algn="l" pos="8453520"/>
                <a:tab algn="l" pos="9367920"/>
                <a:tab algn="l" pos="1028232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68440" indent="-568440">
              <a:lnSpc>
                <a:spcPct val="100000"/>
              </a:lnSpc>
              <a:spcBef>
                <a:spcPts val="649"/>
              </a:spcBef>
              <a:buClr>
                <a:srgbClr val="00ff99"/>
              </a:buClr>
              <a:buSzPct val="75000"/>
              <a:buFont typeface="Wingdings" charset="2"/>
              <a:buChar char=""/>
              <a:tabLst>
                <a:tab algn="l" pos="1138320"/>
                <a:tab algn="l" pos="2052720"/>
                <a:tab algn="l" pos="2967120"/>
                <a:tab algn="l" pos="3881520"/>
                <a:tab algn="l" pos="4795920"/>
                <a:tab algn="l" pos="5710320"/>
                <a:tab algn="l" pos="6624720"/>
                <a:tab algn="l" pos="7539120"/>
                <a:tab algn="l" pos="8453520"/>
                <a:tab algn="l" pos="9367920"/>
                <a:tab algn="l" pos="102823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Objetivos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68440" indent="-568440">
              <a:lnSpc>
                <a:spcPct val="100000"/>
              </a:lnSpc>
              <a:spcBef>
                <a:spcPts val="649"/>
              </a:spcBef>
              <a:buClr>
                <a:srgbClr val="00ff99"/>
              </a:buClr>
              <a:buSzPct val="75000"/>
              <a:buFont typeface="Comic Sans MS"/>
              <a:buAutoNum type="arabicPeriod"/>
              <a:tabLst>
                <a:tab algn="l" pos="1138320"/>
                <a:tab algn="l" pos="2052720"/>
                <a:tab algn="l" pos="2967120"/>
                <a:tab algn="l" pos="3881520"/>
                <a:tab algn="l" pos="4795920"/>
                <a:tab algn="l" pos="5710320"/>
                <a:tab algn="l" pos="6624720"/>
                <a:tab algn="l" pos="7539120"/>
                <a:tab algn="l" pos="8453520"/>
                <a:tab algn="l" pos="9367920"/>
                <a:tab algn="l" pos="102823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mpliar o escopo das açõ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68440" indent="-568440">
              <a:lnSpc>
                <a:spcPct val="100000"/>
              </a:lnSpc>
              <a:spcBef>
                <a:spcPts val="649"/>
              </a:spcBef>
              <a:buClr>
                <a:srgbClr val="00ff99"/>
              </a:buClr>
              <a:buSzPct val="75000"/>
              <a:buFont typeface="Comic Sans MS"/>
              <a:buAutoNum type="arabicPeriod"/>
              <a:tabLst>
                <a:tab algn="l" pos="1138320"/>
                <a:tab algn="l" pos="2052720"/>
                <a:tab algn="l" pos="2967120"/>
                <a:tab algn="l" pos="3881520"/>
                <a:tab algn="l" pos="4795920"/>
                <a:tab algn="l" pos="5710320"/>
                <a:tab algn="l" pos="6624720"/>
                <a:tab algn="l" pos="7539120"/>
                <a:tab algn="l" pos="8453520"/>
                <a:tab algn="l" pos="9367920"/>
                <a:tab algn="l" pos="102823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umentar a resolubilidade da estratégi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68440" indent="-568440">
              <a:lnSpc>
                <a:spcPct val="100000"/>
              </a:lnSpc>
              <a:spcBef>
                <a:spcPts val="649"/>
              </a:spcBef>
              <a:buClr>
                <a:srgbClr val="00ff99"/>
              </a:buClr>
              <a:buSzPct val="75000"/>
              <a:buFont typeface="Comic Sans MS"/>
              <a:buAutoNum type="arabicPeriod"/>
              <a:tabLst>
                <a:tab algn="l" pos="1138320"/>
                <a:tab algn="l" pos="2052720"/>
                <a:tab algn="l" pos="2967120"/>
                <a:tab algn="l" pos="3881520"/>
                <a:tab algn="l" pos="4795920"/>
                <a:tab algn="l" pos="5710320"/>
                <a:tab algn="l" pos="6624720"/>
                <a:tab algn="l" pos="7539120"/>
                <a:tab algn="l" pos="8453520"/>
                <a:tab algn="l" pos="9367920"/>
                <a:tab algn="l" pos="102823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umentar a integralidade das açõ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68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1138320"/>
                <a:tab algn="l" pos="2052720"/>
                <a:tab algn="l" pos="2967120"/>
                <a:tab algn="l" pos="3881520"/>
                <a:tab algn="l" pos="4795920"/>
                <a:tab algn="l" pos="5710320"/>
                <a:tab algn="l" pos="6624720"/>
                <a:tab algn="l" pos="7539120"/>
                <a:tab algn="l" pos="8453520"/>
                <a:tab algn="l" pos="9367920"/>
                <a:tab algn="l" pos="1028232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68440" indent="-568440">
              <a:lnSpc>
                <a:spcPct val="100000"/>
              </a:lnSpc>
              <a:spcBef>
                <a:spcPts val="649"/>
              </a:spcBef>
              <a:buClr>
                <a:srgbClr val="00ff99"/>
              </a:buClr>
              <a:buSzPct val="75000"/>
              <a:buFont typeface="Wingdings" charset="2"/>
              <a:buChar char=""/>
              <a:tabLst>
                <a:tab algn="l" pos="1138320"/>
                <a:tab algn="l" pos="2052720"/>
                <a:tab algn="l" pos="2967120"/>
                <a:tab algn="l" pos="3881520"/>
                <a:tab algn="l" pos="4795920"/>
                <a:tab algn="l" pos="5710320"/>
                <a:tab algn="l" pos="6624720"/>
                <a:tab algn="l" pos="7539120"/>
                <a:tab algn="l" pos="8453520"/>
                <a:tab algn="l" pos="9367920"/>
                <a:tab algn="l" pos="102823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Atuação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68440" indent="-568440">
              <a:lnSpc>
                <a:spcPct val="100000"/>
              </a:lnSpc>
              <a:spcBef>
                <a:spcPts val="649"/>
              </a:spcBef>
              <a:buClr>
                <a:srgbClr val="00ff99"/>
              </a:buClr>
              <a:buSzPct val="75000"/>
              <a:buFont typeface="Comic Sans MS"/>
              <a:buAutoNum type="arabicPeriod"/>
              <a:tabLst>
                <a:tab algn="l" pos="1138320"/>
                <a:tab algn="l" pos="2052720"/>
                <a:tab algn="l" pos="2967120"/>
                <a:tab algn="l" pos="3881520"/>
                <a:tab algn="l" pos="4795920"/>
                <a:tab algn="l" pos="5710320"/>
                <a:tab algn="l" pos="6624720"/>
                <a:tab algn="l" pos="7539120"/>
                <a:tab algn="l" pos="8453520"/>
                <a:tab algn="l" pos="9367920"/>
                <a:tab algn="l" pos="102823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De forma compartilhada com a ESF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68440" indent="-568440">
              <a:lnSpc>
                <a:spcPct val="100000"/>
              </a:lnSpc>
              <a:spcBef>
                <a:spcPts val="649"/>
              </a:spcBef>
              <a:buClr>
                <a:srgbClr val="00ff99"/>
              </a:buClr>
              <a:buSzPct val="75000"/>
              <a:buFont typeface="Comic Sans MS"/>
              <a:buAutoNum type="arabicPeriod"/>
              <a:tabLst>
                <a:tab algn="l" pos="1138320"/>
                <a:tab algn="l" pos="2052720"/>
                <a:tab algn="l" pos="2967120"/>
                <a:tab algn="l" pos="3881520"/>
                <a:tab algn="l" pos="4795920"/>
                <a:tab algn="l" pos="5710320"/>
                <a:tab algn="l" pos="6624720"/>
                <a:tab algn="l" pos="7539120"/>
                <a:tab algn="l" pos="8453520"/>
                <a:tab algn="l" pos="9367920"/>
                <a:tab algn="l" pos="1028232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Não se caracteriza em porta de entrada para a atenção primária 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Comic Sans MS"/>
              </a:rPr>
              <a:t>Modalidades de NASF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mic Sans MS"/>
              </a:rPr>
              <a:t>NASF 1: no mínimo 5 prof. De nível superior- vinculado no mínimo a 8 e máximo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mic Sans MS"/>
              </a:rPr>
              <a:t>20 Equipes SF- custeio R$ 20.000,00/ mê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mic Sans MS"/>
              </a:rPr>
              <a:t>NASF 2: três prof. Nível superior – vinculaods a no mínimo 03 equipes de SF- custeio R$ 6.000,00/ mê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mic Sans MS"/>
              </a:rPr>
              <a:t>Carga horária 40 horas/semana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Comic Sans MS"/>
              </a:rPr>
              <a:t>ATIVIDADES DOS NASF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Os profissionais de cada núcleo devem identificar, em conjunto com a as equipes do SF e a comunidade, as atividades, as ações e as práticas a serem adotadas com cada área coberta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Fazem parte da estratégia de atuação dos núcleos promover a saúde e a qualidade de vida, como estratégia de prevenção de doenças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Por essa razão, destaca-se a importância da atuação multiprofissional, com professores de Educação Física e nutricionistas, entre outros.</a:t>
            </a:r>
            <a:br>
              <a:rPr sz="2800"/>
            </a:b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Comic Sans MS"/>
              </a:rPr>
              <a:t>AÇÕES DOS NASF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* atividades físicas e práticas corporais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* educação permanente em nutrição;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* contribuir para a ampliação e valorização da utilização dos espaços públicos de convivência;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* ações em homeopatia e acupuntura;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* promover ações multiprofissionais de reabilitação para reduzir a incapacidade e deficiências, permitindo a inclusão social;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* atender usuários e familiares em situação de risco psicossocial ou doença mental;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* criar estratégias para abordar problemas vinculados à violência e ao abuso de álcool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* e apoiar as equipes do SF na abordagem e na atenção aos agravos severos ou persistentes na saúde de crianças e mulheres, entre outras ações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94920" y="906480"/>
            <a:ext cx="7839000" cy="146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500" spc="-1" strike="noStrike">
                <a:solidFill>
                  <a:srgbClr val="ffffff"/>
                </a:solidFill>
                <a:latin typeface="Comic Sans MS"/>
                <a:ea typeface="Tahoma"/>
              </a:rPr>
              <a:t>Saúde Mental na </a:t>
            </a:r>
            <a:br>
              <a:rPr sz="4500"/>
            </a:br>
            <a:r>
              <a:rPr b="0" lang="en-GB" sz="4500" spc="-1" strike="noStrike">
                <a:solidFill>
                  <a:srgbClr val="ffffff"/>
                </a:solidFill>
                <a:latin typeface="Comic Sans MS"/>
                <a:ea typeface="Tahoma"/>
              </a:rPr>
              <a:t>Atenção Básica</a:t>
            </a:r>
            <a:endParaRPr b="1" lang="en-US" sz="45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755280" y="3429000"/>
            <a:ext cx="75452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ffffff"/>
                </a:solidFill>
                <a:latin typeface="Garamond"/>
              </a:rPr>
              <a:t>Contribuição: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ffffff"/>
                </a:solidFill>
                <a:latin typeface="Garamond"/>
              </a:rPr>
              <a:t>Sandra Vitorino 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ffffff"/>
                </a:solidFill>
                <a:latin typeface="Garamond"/>
              </a:rPr>
              <a:t>Coordenadora Municipal de Saúde Mental de Joinville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ffffff"/>
                </a:solidFill>
                <a:latin typeface="Garamond"/>
              </a:rPr>
              <a:t>Karime Pôrto e Taciane Monteiro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ffffff"/>
                </a:solidFill>
                <a:latin typeface="Garamond"/>
              </a:rPr>
              <a:t>Coordenação Nacional de Saúde Mental, Álcool e outras Drogas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500" spc="-1" strike="noStrike">
                <a:solidFill>
                  <a:srgbClr val="ffffff"/>
                </a:solidFill>
                <a:latin typeface="Garamond"/>
              </a:rPr>
              <a:t>DAPE/SAS/MS</a:t>
            </a:r>
            <a:endParaRPr b="0" lang="en-US" sz="25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700" spc="-1" strike="noStrike">
                <a:solidFill>
                  <a:srgbClr val="ffffff"/>
                </a:solidFill>
                <a:latin typeface="Comic Sans MS"/>
              </a:rPr>
              <a:t>Núcleos de Apoio à Saúde da Família</a:t>
            </a:r>
            <a:endParaRPr b="1" lang="en-US" sz="37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68440" indent="0">
              <a:spcBef>
                <a:spcPts val="649"/>
              </a:spcBef>
              <a:buNone/>
              <a:tabLst>
                <a:tab algn="l" pos="1138320"/>
                <a:tab algn="l" pos="2052720"/>
                <a:tab algn="l" pos="2967120"/>
                <a:tab algn="l" pos="3881520"/>
                <a:tab algn="l" pos="4795920"/>
                <a:tab algn="l" pos="5710320"/>
                <a:tab algn="l" pos="6624720"/>
                <a:tab algn="l" pos="7539120"/>
                <a:tab algn="l" pos="8453520"/>
                <a:tab algn="l" pos="9367920"/>
                <a:tab algn="l" pos="102823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8440" indent="-568440">
              <a:lnSpc>
                <a:spcPct val="100000"/>
              </a:lnSpc>
              <a:spcBef>
                <a:spcPts val="649"/>
              </a:spcBef>
              <a:buClr>
                <a:srgbClr val="00ff99"/>
              </a:buClr>
              <a:buSzPct val="75000"/>
              <a:buFont typeface="Wingdings" charset="2"/>
              <a:buChar char=""/>
              <a:tabLst>
                <a:tab algn="l" pos="1138320"/>
                <a:tab algn="l" pos="2052720"/>
                <a:tab algn="l" pos="2967120"/>
                <a:tab algn="l" pos="3881520"/>
                <a:tab algn="l" pos="4795920"/>
                <a:tab algn="l" pos="5710320"/>
                <a:tab algn="l" pos="6624720"/>
                <a:tab algn="l" pos="7539120"/>
                <a:tab algn="l" pos="8453520"/>
                <a:tab algn="l" pos="9367920"/>
                <a:tab algn="l" pos="1028232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564 NASF – 3462 profissionai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8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1138320"/>
                <a:tab algn="l" pos="2052720"/>
                <a:tab algn="l" pos="2967120"/>
                <a:tab algn="l" pos="3881520"/>
                <a:tab algn="l" pos="4795920"/>
                <a:tab algn="l" pos="5710320"/>
                <a:tab algn="l" pos="6624720"/>
                <a:tab algn="l" pos="7539120"/>
                <a:tab algn="l" pos="8453520"/>
                <a:tab algn="l" pos="9367920"/>
                <a:tab algn="l" pos="102823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8440" indent="-568440">
              <a:lnSpc>
                <a:spcPct val="100000"/>
              </a:lnSpc>
              <a:spcBef>
                <a:spcPts val="649"/>
              </a:spcBef>
              <a:buClr>
                <a:srgbClr val="00ff99"/>
              </a:buClr>
              <a:buSzPct val="75000"/>
              <a:buFont typeface="Wingdings" charset="2"/>
              <a:buChar char=""/>
              <a:tabLst>
                <a:tab algn="l" pos="1138320"/>
                <a:tab algn="l" pos="2052720"/>
                <a:tab algn="l" pos="2967120"/>
                <a:tab algn="l" pos="3881520"/>
                <a:tab algn="l" pos="4795920"/>
                <a:tab algn="l" pos="5710320"/>
                <a:tab algn="l" pos="6624720"/>
                <a:tab algn="l" pos="7539120"/>
                <a:tab algn="l" pos="8453520"/>
                <a:tab algn="l" pos="9367920"/>
                <a:tab algn="l" pos="1028232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1056 são profissionais de SM (psiquiatra, psicólogo, terapeuta ocupacional, assistente social, etc)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8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1138320"/>
                <a:tab algn="l" pos="2052720"/>
                <a:tab algn="l" pos="2967120"/>
                <a:tab algn="l" pos="3881520"/>
                <a:tab algn="l" pos="4795920"/>
                <a:tab algn="l" pos="5710320"/>
                <a:tab algn="l" pos="6624720"/>
                <a:tab algn="l" pos="7539120"/>
                <a:tab algn="l" pos="8453520"/>
                <a:tab algn="l" pos="9367920"/>
                <a:tab algn="l" pos="1028232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8440" indent="-568440">
              <a:lnSpc>
                <a:spcPct val="100000"/>
              </a:lnSpc>
              <a:spcBef>
                <a:spcPts val="649"/>
              </a:spcBef>
              <a:buClr>
                <a:srgbClr val="00ff99"/>
              </a:buClr>
              <a:buSzPct val="75000"/>
              <a:buFont typeface="Wingdings" charset="2"/>
              <a:buChar char=""/>
              <a:tabLst>
                <a:tab algn="l" pos="1138320"/>
                <a:tab algn="l" pos="2052720"/>
                <a:tab algn="l" pos="2967120"/>
                <a:tab algn="l" pos="3881520"/>
                <a:tab algn="l" pos="4795920"/>
                <a:tab algn="l" pos="5710320"/>
                <a:tab algn="l" pos="6624720"/>
                <a:tab algn="l" pos="7539120"/>
                <a:tab algn="l" pos="8453520"/>
                <a:tab algn="l" pos="9367920"/>
                <a:tab algn="l" pos="1028232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Necessidade de capacitar os profissionais dos NASF e também da ESF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5684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1138320"/>
                <a:tab algn="l" pos="2052720"/>
                <a:tab algn="l" pos="2967120"/>
                <a:tab algn="l" pos="3881520"/>
                <a:tab algn="l" pos="4795920"/>
                <a:tab algn="l" pos="5710320"/>
                <a:tab algn="l" pos="6624720"/>
                <a:tab algn="l" pos="7539120"/>
                <a:tab algn="l" pos="8453520"/>
                <a:tab algn="l" pos="9367920"/>
                <a:tab algn="l" pos="1028232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Transtornos mentais grav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12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Problemas decorrentes do uso de álcool e outras droga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12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Questões relacionadas à violênci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12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Exclusão social (pacientes cronificados em hospitais psiquiátricos, pessoas em prisão domiciliar, população em situação de rua, idoso em situação de abandono, crianças e adolescentes em situação de risco pessoal e social)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800" spc="-1" strike="noStrike">
                <a:solidFill>
                  <a:srgbClr val="ffffff"/>
                </a:solidFill>
                <a:latin typeface="Comic Sans MS"/>
              </a:rPr>
              <a:t>Situações de risco e prioridades</a:t>
            </a:r>
            <a:endParaRPr b="1" lang="en-US" sz="3800" spc="-1" strike="noStrike">
              <a:solidFill>
                <a:srgbClr val="b9efee"/>
              </a:solidFill>
              <a:latin typeface="Garamond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Comic Sans MS"/>
              </a:rPr>
              <a:t>Indicadores importantes para as ações de Saúde Mental na Atenção Básica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Aumento dos atendimentos de casos de Saúde Menta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Redução das internações psiquiátrica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Adesão (mesmo que descontínua) dos pacientes e familiares ao tratament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Uso racional de medicamento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Redução de danos no uso abusivo de álcool e outras droga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-38124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mic Sans MS"/>
              </a:rPr>
              <a:t>Serviço Saúde Mental – Atenção Básica: etapas para cadastramento</a:t>
            </a:r>
            <a:br>
              <a:rPr sz="3200"/>
            </a:b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87692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Referência: Portaria SNAS nº 224/1992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O Gestor Municipal de Saúde encaminhará à Coordenação Estadual de Saúde Mental, via Gerência de Saúde, a solicitação de cadastramento do Serviço de Saúde Mental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O processo de cadastramento de Serviços Municipais de Saúde Mental são de responsabilidade do gestor estadual e deverão seguir as etapas contidas no site: </a:t>
            </a:r>
            <a:r>
              <a:rPr b="0" lang="pt-BR" sz="2400" spc="-1" strike="noStrike" u="sng">
                <a:solidFill>
                  <a:srgbClr val="00ff99"/>
                </a:solidFill>
                <a:uFillTx/>
                <a:latin typeface="Comic Sans MS"/>
                <a:hlinkClick r:id="rId2"/>
              </a:rPr>
              <a:t>www.saude.sc.gov.br</a:t>
            </a: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 /atenção  básica /saúde mental /como criar serviço saúde mental na  atenção básic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Comic Sans MS"/>
              </a:rPr>
              <a:t>Serviço Saúde Mental – Atenção Básica: etapas para cadastramento</a:t>
            </a:r>
            <a:br>
              <a:rPr sz="3200"/>
            </a:b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1 – Ofício de solicitação de cadastramento do Serviço feito pelo gestor municipal de saúde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2 – Projeto terapêutico (vide passo a passo no site citado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3 – Vistoria “in loco” pela Gerência de Saúde  a que pertence o município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Comic Sans MS"/>
              </a:rPr>
              <a:t>4 -  Será emitido Parecer Técnico pela Gerência de Saúde e/ou Coordenação Estadual de Saúde Mental  informando ao município sobre o cadastramento do serviço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Comic Sans MS"/>
              </a:rPr>
              <a:t>DIFICULDADES DA AB EM S.M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Falta de recursos financeiros para equipamentos, materiais, etc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Estrutura física inadequada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Equipe incompleta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Falta de capacitação para a equipe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Falta de apoio (seja do gestor ou matricial, NASF, CAPS, etc.)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Ser um serviço pouco valorizado e priorizado pela gestão municipal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Necessidade da equipe de ser ouvida e respeitada tecnicamente pelos gestor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3120" cy="9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Contatos em Saúde Mental: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80" name="Text Box 2"/>
          <p:cNvSpPr/>
          <p:nvPr/>
        </p:nvSpPr>
        <p:spPr>
          <a:xfrm>
            <a:off x="816120" y="5878440"/>
            <a:ext cx="24494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88880" y="1523520"/>
            <a:ext cx="832824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Coordenação de Saúde Menta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Ministério da saú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Edifício Sede, 6º andar, sala 606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Brasília – DF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CEP 70058-900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Fone:  61 3315-3319/2313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Fax: 61 3315-2313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Email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1" lang="en-GB" sz="3200" spc="-1" strike="noStrike">
                <a:solidFill>
                  <a:srgbClr val="ffffff"/>
                </a:solidFill>
                <a:latin typeface="Garamond"/>
              </a:rPr>
              <a:t>saudemental@saude.gov.br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3120" cy="90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mic Sans MS"/>
              </a:rPr>
              <a:t>Contatos em SM no Estado de SC:</a:t>
            </a:r>
            <a:endParaRPr b="1" lang="en-US" sz="3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83" name="Text Box 2"/>
          <p:cNvSpPr/>
          <p:nvPr/>
        </p:nvSpPr>
        <p:spPr>
          <a:xfrm>
            <a:off x="816120" y="5878440"/>
            <a:ext cx="24494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88880" y="1828800"/>
            <a:ext cx="8328240" cy="46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Comic Sans MS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Coordenação Estadual  de Saúde Menta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Comic Sans MS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Elísia Pu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Comic Sans MS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Policlínic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Comic Sans MS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Gerência de Atenção Básic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Comic Sans MS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Rua Esteves Junio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ff99"/>
              </a:buClr>
              <a:buFont typeface="Comic Sans MS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Fone:  48 3212-1689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80000"/>
              </a:lnSpc>
              <a:spcBef>
                <a:spcPts val="224"/>
              </a:spcBef>
              <a:buClr>
                <a:srgbClr val="00ff99"/>
              </a:buClr>
              <a:buFont typeface="Comic Sans MS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Email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Comic Sans MS"/>
              <a:buChar char="•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GB" sz="2800" spc="-1" strike="noStrike">
                <a:solidFill>
                  <a:srgbClr val="ffffff"/>
                </a:solidFill>
                <a:latin typeface="Comic Sans MS"/>
              </a:rPr>
              <a:t>saudemental@saude.sc.gov.b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509760"/>
            <a:ext cx="8231040" cy="90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b9efee"/>
                </a:solidFill>
                <a:latin typeface="Comic Sans MS"/>
              </a:rPr>
              <a:t>TEMOS OU NÃO TEMOS?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-360" y="182880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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3% da população necessita de cuidados contínuos (transtornos mentais severos e persistentes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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9% precisam de atendimento eventual (transtornos mentais leves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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10 a 12% da população dependente de álcoo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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25% dos casos atendidos na AB são de SM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31040" cy="55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0840" indent="-33084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omic Sans MS"/>
              </a:rPr>
              <a:t>56% das ESF informam realizar alguma ação de saúde mental (DAB/2001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0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0840" indent="-33084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pt-BR" sz="3600" spc="-1" strike="noStrike">
                <a:solidFill>
                  <a:srgbClr val="ffffff"/>
                </a:solidFill>
                <a:latin typeface="Comic Sans MS"/>
              </a:rPr>
              <a:t>80% dos usuários encaminhados para os especialistas de saúde mental não tem demandas específicas . Estes poderiam receber atendimento na atenção primária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00000" y="549000"/>
            <a:ext cx="7623360" cy="20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100" spc="-1" strike="noStrike">
                <a:solidFill>
                  <a:srgbClr val="ffffff"/>
                </a:solidFill>
                <a:latin typeface="Comic Sans MS"/>
                <a:ea typeface="Tahoma"/>
              </a:rPr>
              <a:t>Saúde Mental na Atenção Básica: apoio matricial e </a:t>
            </a:r>
            <a:br>
              <a:rPr sz="4100"/>
            </a:br>
            <a:r>
              <a:rPr b="1" lang="en-GB" sz="4100" spc="-1" strike="noStrike">
                <a:solidFill>
                  <a:srgbClr val="ffffff"/>
                </a:solidFill>
                <a:latin typeface="Comic Sans MS"/>
                <a:ea typeface="Tahoma"/>
              </a:rPr>
              <a:t>co-responsabilidade e intersetorialidade no território</a:t>
            </a:r>
            <a:r>
              <a:rPr b="1" lang="en-GB" sz="4500" spc="-1" strike="noStrike">
                <a:solidFill>
                  <a:srgbClr val="b9efee"/>
                </a:solidFill>
                <a:latin typeface="Garamond"/>
                <a:ea typeface="Tahoma"/>
              </a:rPr>
              <a:t> </a:t>
            </a:r>
            <a:endParaRPr b="1" lang="en-US" sz="45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900000" y="4314960"/>
            <a:ext cx="7545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aramond"/>
              </a:rPr>
              <a:t>Ampliando olhares, 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aramond"/>
              </a:rPr>
              <a:t>por Sandra Vitorino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9640" y="68040"/>
            <a:ext cx="82296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ffffff"/>
                </a:solidFill>
                <a:latin typeface="Comic Sans MS"/>
              </a:rPr>
              <a:t>Saúde Mental na Atenção Básica: </a:t>
            </a:r>
            <a:br>
              <a:rPr sz="3400"/>
            </a:br>
            <a:r>
              <a:rPr b="1" lang="pt-BR" sz="3400" spc="-1" strike="noStrike">
                <a:solidFill>
                  <a:srgbClr val="ffffff"/>
                </a:solidFill>
                <a:latin typeface="Comic Sans MS"/>
              </a:rPr>
              <a:t>o vínculo e o diálogo necessários</a:t>
            </a:r>
            <a:endParaRPr b="1" lang="en-US" sz="3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89680" indent="-589680">
              <a:lnSpc>
                <a:spcPct val="100000"/>
              </a:lnSpc>
              <a:spcBef>
                <a:spcPts val="649"/>
              </a:spcBef>
              <a:buClr>
                <a:srgbClr val="00ff99"/>
              </a:buClr>
              <a:buFont typeface="Comic Sans MS"/>
              <a:buChar char="•"/>
              <a:tabLst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omic Sans MS"/>
              </a:rPr>
              <a:t>AB como campo potencial para a SM: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896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89680" indent="-589680">
              <a:lnSpc>
                <a:spcPct val="100000"/>
              </a:lnSpc>
              <a:spcBef>
                <a:spcPts val="649"/>
              </a:spcBef>
              <a:buClr>
                <a:srgbClr val="00ff99"/>
              </a:buClr>
              <a:buSzPct val="75000"/>
              <a:buFont typeface="Comic Sans MS"/>
              <a:buAutoNum type="alphaLcParenR"/>
              <a:tabLst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omic Sans MS"/>
              </a:rPr>
              <a:t>Acolhimento no território - usuário é atendido onde está: atendimento da necessidade e não só da demanda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89680" indent="-589680">
              <a:lnSpc>
                <a:spcPct val="100000"/>
              </a:lnSpc>
              <a:spcBef>
                <a:spcPts val="649"/>
              </a:spcBef>
              <a:buClr>
                <a:srgbClr val="00ff99"/>
              </a:buClr>
              <a:buSzPct val="75000"/>
              <a:buFont typeface="Comic Sans MS"/>
              <a:buAutoNum type="alphaLcParenR"/>
              <a:tabLst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omic Sans MS"/>
              </a:rPr>
              <a:t>Equipe multidisciplinar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89680" indent="-589680">
              <a:lnSpc>
                <a:spcPct val="100000"/>
              </a:lnSpc>
              <a:spcBef>
                <a:spcPts val="649"/>
              </a:spcBef>
              <a:buClr>
                <a:srgbClr val="00ff99"/>
              </a:buClr>
              <a:buSzPct val="75000"/>
              <a:buFont typeface="Comic Sans MS"/>
              <a:buAutoNum type="alphaLcParenR"/>
              <a:tabLst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omic Sans MS"/>
              </a:rPr>
              <a:t>Intervenção a partir do contexto familiar – família como parceira no tratamento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89680" indent="-589680">
              <a:lnSpc>
                <a:spcPct val="100000"/>
              </a:lnSpc>
              <a:spcBef>
                <a:spcPts val="649"/>
              </a:spcBef>
              <a:buClr>
                <a:srgbClr val="00ff99"/>
              </a:buClr>
              <a:buSzPct val="75000"/>
              <a:buFont typeface="Comic Sans MS"/>
              <a:buAutoNum type="alphaLcParenR"/>
              <a:tabLst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omic Sans MS"/>
              </a:rPr>
              <a:t>Continuidade do cuidado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589680" indent="-589680">
              <a:lnSpc>
                <a:spcPct val="100000"/>
              </a:lnSpc>
              <a:spcBef>
                <a:spcPts val="649"/>
              </a:spcBef>
              <a:buClr>
                <a:srgbClr val="00ff99"/>
              </a:buClr>
              <a:buSzPct val="75000"/>
              <a:buFont typeface="Comic Sans MS"/>
              <a:buAutoNum type="alphaLcParenR"/>
              <a:tabLst>
                <a:tab algn="l" pos="1179360"/>
                <a:tab algn="l" pos="2093760"/>
                <a:tab algn="l" pos="3008160"/>
                <a:tab algn="l" pos="3922560"/>
                <a:tab algn="l" pos="4836960"/>
                <a:tab algn="l" pos="5751360"/>
                <a:tab algn="l" pos="6665760"/>
                <a:tab algn="l" pos="7580160"/>
                <a:tab algn="l" pos="8494560"/>
                <a:tab algn="l" pos="9408960"/>
                <a:tab algn="l" pos="1032336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omic Sans MS"/>
              </a:rPr>
              <a:t>Potencialidades da rede sanitária e comunitária - intersetorialidade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9931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ffffff"/>
                </a:solidFill>
                <a:latin typeface="Comic Sans MS"/>
              </a:rPr>
              <a:t>SM na AB: alguns princípios</a:t>
            </a:r>
            <a:endParaRPr b="1" lang="en-US" sz="42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-360" y="1066320"/>
            <a:ext cx="89139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00ff99"/>
              </a:buClr>
              <a:buSzPct val="75000"/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pt-BR" sz="3000" spc="-1" strike="noStrike">
                <a:solidFill>
                  <a:srgbClr val="ffffff"/>
                </a:solidFill>
                <a:latin typeface="Comic Sans MS"/>
              </a:rPr>
              <a:t>Todo problema de saúde é também  - e sempre – mental e toda saúde mental é também produção de saúde”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1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00ff99"/>
              </a:buClr>
              <a:buSzPct val="75000"/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omic Sans MS"/>
              </a:rPr>
              <a:t>Sofrimento psíquico associado a toda e qualquer doença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1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00ff99"/>
              </a:buClr>
              <a:buSzPct val="75000"/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omic Sans MS"/>
              </a:rPr>
              <a:t>Saúde mental é transversal pois se articula e potencializa a atenção básica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1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lnSpc>
                <a:spcPct val="90000"/>
              </a:lnSpc>
              <a:spcBef>
                <a:spcPts val="649"/>
              </a:spcBef>
              <a:buClr>
                <a:srgbClr val="00ff99"/>
              </a:buClr>
              <a:buSzPct val="75000"/>
              <a:buFont typeface="Garamond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Comic Sans MS"/>
              </a:rPr>
              <a:t>Vinculação e acolhimento como possibilidade de promoção de saúde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41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31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fffff"/>
                </a:solidFill>
                <a:latin typeface="Comic Sans MS"/>
              </a:rPr>
              <a:t>Apoio matricial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mic Sans MS"/>
              </a:rPr>
              <a:t>Definição: arranjo organizacional que pretende oferecer retaguarda especializada tanto assistencial como suporte pedagógico às equipes de referência (Campos &amp; Domitti, 2007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mic Sans MS"/>
              </a:rPr>
              <a:t>Metodologia de gestão do cuidad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00ff99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omic Sans MS"/>
              </a:rPr>
              <a:t>Foi adotada em serviços de saúde mental, de atenção básica e da área hospitalar do SU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pt-BR" sz="3600" spc="-1" strike="noStrike">
                <a:solidFill>
                  <a:srgbClr val="b9efee"/>
                </a:solidFill>
                <a:latin typeface="Comic Sans MS"/>
              </a:rPr>
              <a:t>Diferença entre Apoio matricial e equipes de referência</a:t>
            </a:r>
            <a:endParaRPr b="1" lang="en-US" sz="36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A equipe ou profissional de referência são aqueles que têm a responsabilidade pela condução de um caso individual, familiar ou comunitári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A equipe de referência visa ampliar as possibilidades de construção de vínculo entre profissionais e usuário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SzPct val="75000"/>
              <a:buFont typeface="Wingdings" charset="2"/>
              <a:buChar char="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Comic Sans MS"/>
              </a:rPr>
              <a:t>As equipes de apoio matricial ofertam retaguarda assistencial e pedagógica mas não devem fazer a função das equipes de referênci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andra V</dc:creator>
  <dc:description/>
  <dc:language>en-US</dc:language>
  <cp:lastModifiedBy>User</cp:lastModifiedBy>
  <dcterms:modified xsi:type="dcterms:W3CDTF">2010-04-14T03:26:32Z</dcterms:modified>
  <cp:revision>131</cp:revision>
  <dc:subject/>
  <dc:title>POLÍTICA NACIONAL DE SAÚDE MENTAL</dc:title>
</cp:coreProperties>
</file>