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42C9-4072-49F7-AE9A-D0FC9D913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2013-3461-4957-9A59-323DC3696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A4DB-F8DD-4A7C-8957-0A1229E3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E618-4E68-4C3A-BA21-0D473B10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E7BF-6AC1-4CBD-8919-995E4E8E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0DB2-ADEC-4248-B925-53668D401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87E31-9A5D-4454-89C7-6810F532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6ECD-47C6-4904-87E6-91BF5E1D8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A9238-5FFF-4C30-848D-4F52162A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573D9-660D-494C-9440-75729A80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63DB8-6426-41CC-AA20-0200F9AF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44D2-D670-451E-BE1F-C7F1F995F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51B8-DEF5-4736-AC9D-BEFF274E1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091A-35EB-4A0F-B9AD-44F041B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BD686-4B40-4F03-AED4-4EB092A3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CAF5-5C47-4AE5-AD34-4ADA561C6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D058-C609-46E2-BD29-1D8CFA641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B8215-C6A3-4D1A-8CE2-7BB243F6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47110-3646-4E7E-9D04-89D6ED582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7CC96-2D4C-4A2D-B983-F5086A113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4D441-D63C-43C5-A6E5-18554BB41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2352F-16BA-4391-A5ED-F5A73915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1A1D-53AE-4BED-8BBC-C2357518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CC68C-4E85-4265-95B0-FCB17C169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916F7-5331-4E4F-B034-9AA052D3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1302F-AAC1-44DA-B351-9DC66C15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7F35B-2CB5-4924-BD51-0D714CAA9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50874-A023-47BC-AEF6-E9033691F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EA80-F002-459D-AC24-81F8C91A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CAA6-D875-4049-A853-12721868C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24F5B-9A13-484F-B848-A7FFAFB98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E5C5B-07E8-481E-9240-B207C1A60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49D8-F6E7-4151-A293-6669BDA5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311B-4F4B-40B0-A4A0-F8A815ADD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4BD03-32CA-4A02-8DEB-35121C11D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2FB5-60B1-4E77-A30E-C47E7AD7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5968D-8F57-47B9-AE17-8363AFCF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1ECD7-5C10-4FF4-BE14-762EFF83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9B13-0DD3-42B1-BFE0-E2BEB49A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E0E12-A076-4099-A9CD-ED60F3338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AD50E-0139-48BE-9A45-35CB3C1A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A6270-5AEA-483C-AC5B-D98D5BA16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8458C2-A19F-4B1A-A06F-80249CB4C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74216-AC08-41AC-8B9B-3F00DA89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EF96-4402-4B9C-A72F-85D21592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5E9FF-32B5-457A-9453-A5A0C88A0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372FC-F672-44BF-B0EC-7535F647D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4A8A-9807-4474-A2A7-1B63D5A24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C88CCF-D58E-4BED-9319-CEA4FF919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AF71B-CBD2-42DF-A691-E0F3B535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8C03D-A384-4FE2-A2A4-51E69CF7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398EC3-D192-4D29-B3D5-C055AFF9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633A21-E409-4713-A165-8E71CE0D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5817A-2D8F-47FF-925F-FBA9E0A2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D2850A-D9A8-4B53-B5EF-904B332F4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4CF-E1E0-4231-9B76-AED2BFF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A7DC7-51E7-4393-8B10-ED85C62A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B8696-7E41-436A-9398-9A0383D62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8667-6CFF-4A5F-8F27-9C7469C8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FAB12C-405C-4EDA-81B1-3CF36EF7B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AD7BC6-7E8F-4A7A-943C-B7CE351E3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936F1-73F1-4499-8937-584AE132E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FD974-4821-4840-9786-FC950C57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D1FB3-3548-4EC4-B6C9-1003852B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E6BEA3-4A06-4450-ADA4-B028515F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E2914-BDEC-4D58-AFC6-72DEA74D9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6442-914D-4C0C-B74B-F0EB1CFB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9E8AA-8D96-4B9B-A582-CDE7F871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67DFB-C927-4806-8547-7B256B1DC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CA4D-A55A-4121-8E55-4E98CEB5A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5CAC5-A73C-4747-B7D0-E8977B906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E4A34-3DF9-4FDB-953B-43221CDD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E468E-265C-4FF8-8BB0-6C283FEE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0D1F5-FA73-4663-8B51-397DFA10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B63BA-5833-439B-8916-7C339CF8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83DCCE-A53F-4FCC-8394-899571CD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573AF-CED3-448D-814C-BD899EF5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AF7E-60D3-4235-B8EA-474C7E44F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F3BA3-1A48-4FC6-B1B0-B744E86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873A9F-44E3-4436-A106-B9B4597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3BD504-D31A-49AC-BCFB-A94CF792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7F881-0707-4851-8204-7C56ABB8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05182-9C5F-4979-8BC7-5FB3CB17F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0CF16D-CAB0-4A38-AD94-3F2B5FC95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BA1A48-307B-4FF2-B579-5F024709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E1681-9C8E-4B49-94B2-94AD7970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BF309-6990-4A96-BC4A-40C60E7B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9F13B-EA4D-4758-86C9-E07DB3B64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6DB-C8D0-45B7-B873-A630EA250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9E2310-610A-4E3A-B240-9CF0EB1C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F1D89-F42A-428C-8A1F-2B232995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6C6EA-135A-467D-AFE6-6CDEAA57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E53CA4-6611-4F24-ACEC-2615D372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434E91-D12C-4E65-82F5-4D70F1A4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5DD08-55EE-482D-B330-487D1947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1C5062-6716-436F-AFE2-A597F0034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ângulo retângulo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Conector reto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490F-3F12-4DDF-9FC9-DE8045E6F844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ângulo retângulo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upo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a livre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orma livre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orma livre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a livre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Conector reto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07DD-A554-45D4-A862-1D6AAA30B74E}" type="slidenum"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Divisa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Divisa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CB0C9-F079-4549-BD2F-22FEBBEB9928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9307-21C8-4994-99EB-1733170410F3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DBA7-3E23-4AC7-96B3-2C3467BD7509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a livre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rma livre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Triângulo retângulo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ângulo retângulo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Conector reto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87254-E095-4F16-B188-C97E9CB0F6AB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0910B-F3C9-431D-8B4F-D89164A26C19}" type="slidenum">
              <a:rPr b="0" lang="pt-BR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a livre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rma livre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Triângulo retângulo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ângulo retângulo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Conector reto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Divisa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visa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8A7A9-26E6-4E31-9060-3E0FFD3B4B42}" type="slidenum">
              <a:rPr b="0" lang="pt-BR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D:\fotos saúde\SO000208.jpg"/>
          <p:cNvPicPr/>
          <p:nvPr/>
        </p:nvPicPr>
        <p:blipFill>
          <a:blip r:embed="rId1"/>
          <a:stretch/>
        </p:blipFill>
        <p:spPr>
          <a:xfrm>
            <a:off x="500040" y="285840"/>
            <a:ext cx="1714680" cy="4572000"/>
          </a:xfrm>
          <a:prstGeom prst="rect">
            <a:avLst/>
          </a:prstGeom>
          <a:ln w="0">
            <a:noFill/>
          </a:ln>
        </p:spPr>
      </p:pic>
      <p:pic>
        <p:nvPicPr>
          <p:cNvPr id="371" name="Título 1" descr=""/>
          <p:cNvPicPr/>
          <p:nvPr/>
        </p:nvPicPr>
        <p:blipFill>
          <a:blip r:embed="rId2"/>
          <a:stretch/>
        </p:blipFill>
        <p:spPr>
          <a:xfrm>
            <a:off x="682560" y="3565440"/>
            <a:ext cx="7931160" cy="16956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999720" y="961560"/>
            <a:ext cx="7715160" cy="17528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Lucida Sans Unicode"/>
              </a:rPr>
              <a:t>SAUDE MENTAL – DIREITO E COMPROMISSO DE TODOS: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000000"/>
                </a:solidFill>
                <a:latin typeface="Lucida Sans Unicode"/>
              </a:rPr>
              <a:t>CONSOLIDAR AVANÇOS E ENFRENTAR DESAFIOS</a:t>
            </a: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12" descr=""/>
          <p:cNvPicPr/>
          <p:nvPr/>
        </p:nvPicPr>
        <p:blipFill>
          <a:blip r:embed="rId1"/>
          <a:stretch/>
        </p:blipFill>
        <p:spPr>
          <a:xfrm>
            <a:off x="5695920" y="2571840"/>
            <a:ext cx="3233880" cy="40003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50004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aps I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teração entre psicóticos e dependentes químicos;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aps II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Alta médic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erfil (neurose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SS (piora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 – incapacidade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0960" indent="-21024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ternaçõ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5520" indent="-23508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ítulo 2" descr=""/>
          <p:cNvPicPr/>
          <p:nvPr/>
        </p:nvPicPr>
        <p:blipFill>
          <a:blip r:embed="rId2"/>
          <a:stretch/>
        </p:blipFill>
        <p:spPr>
          <a:xfrm>
            <a:off x="201600" y="353880"/>
            <a:ext cx="8491680" cy="10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6" descr="D:\fotos saúde\SO000218.jpg"/>
          <p:cNvPicPr/>
          <p:nvPr/>
        </p:nvPicPr>
        <p:blipFill>
          <a:blip r:embed="rId1"/>
          <a:stretch/>
        </p:blipFill>
        <p:spPr>
          <a:xfrm>
            <a:off x="4929120" y="2643120"/>
            <a:ext cx="3946680" cy="394668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903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aps III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ornou-se hospital psiquiátric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oentes incuráveis associai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23% moradores de rua do Brasil, 30 a 70% nos EU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edicações de depósit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577080" indent="-2124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ora do hospital geral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Sem equipe técnic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omorbidade 80%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obia social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ficit de atenção e hiperatividade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squizofreni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ítulo 3" descr=""/>
          <p:cNvPicPr/>
          <p:nvPr/>
        </p:nvPicPr>
        <p:blipFill>
          <a:blip r:embed="rId1"/>
          <a:stretch/>
        </p:blipFill>
        <p:spPr>
          <a:xfrm>
            <a:off x="231840" y="396720"/>
            <a:ext cx="8717040" cy="15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Bipolar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ranstorno de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ersonalidade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OC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15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ânic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6" name="Picture 2" descr="http://biologiaecologia1globalwarming.files.wordpress.com/2009/11/bipolar.jpg"/>
          <p:cNvPicPr/>
          <p:nvPr/>
        </p:nvPicPr>
        <p:blipFill>
          <a:blip r:embed="rId1"/>
          <a:stretch/>
        </p:blipFill>
        <p:spPr>
          <a:xfrm>
            <a:off x="4643280" y="785880"/>
            <a:ext cx="40770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500040" y="1617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anipulados (má qualidade - ABP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Genéricos (bioequivalência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Básico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Remédios básicos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Ácido valpróico 250mg (xarope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ortriptilina 25mg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6840" y="50004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Amitriptilina 2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Levodopa e carbidop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arbamazepina 20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arbonato de lítio 300mg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ramadol 50mg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lomipramina 2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loridrato de biperideno 2mg (comp.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88360" indent="-201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iazepam 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enitoína 10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enobarbital 10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luoxetina 20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Haloperidol 5mg (comprimido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5920" y="161784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squizofrenia refratári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TB, TOC, depressão, demência, outras psicos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lozapina, quetiapina, olanzapina, ziprasidona, risperidon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mência – revastigmina, galantamin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457200" y="157176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Longevidade – degenerativ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recocidade – crianç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rogas – crack, metanfetaminas (internações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ra de Aquário (Peixe-Aquário) –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2000 anos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57480" indent="-2502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Picture 4" descr="fogueira"/>
          <p:cNvPicPr/>
          <p:nvPr/>
        </p:nvPicPr>
        <p:blipFill>
          <a:blip r:embed="rId1">
            <a:grayscl/>
          </a:blip>
          <a:stretch/>
        </p:blipFill>
        <p:spPr>
          <a:xfrm>
            <a:off x="4141800" y="0"/>
            <a:ext cx="5002200" cy="685800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500040" y="9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au dos loucos (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vazão aos d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oent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es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ossuído pelo d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iab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Bruxaria (queim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ado na fog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ueir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a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409 – Renascen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ça – Igreja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at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ólica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– 1</a:t>
            </a:r>
            <a:r>
              <a:rPr b="0" lang="pt-BR" sz="3300" spc="-1" strike="noStrike" baseline="30000">
                <a:solidFill>
                  <a:srgbClr val="000000"/>
                </a:solidFill>
                <a:latin typeface="Lucida Sans Unicode"/>
              </a:rPr>
              <a:t>o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hospício – (h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ospedage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Valênci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oente mental v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isto de f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orma</a:t>
            </a:r>
            <a:r>
              <a:rPr b="0" lang="pt-BR" sz="3300" spc="-1" strike="noStrike">
                <a:solidFill>
                  <a:srgbClr val="ffffff"/>
                </a:solidFill>
                <a:latin typeface="Lucida Sans Unicode"/>
              </a:rPr>
              <a:t> relativa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à razão.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E:\saúde mental\timthumb.jpg"/>
          <p:cNvPicPr/>
          <p:nvPr/>
        </p:nvPicPr>
        <p:blipFill>
          <a:blip r:embed="rId1"/>
          <a:stretch/>
        </p:blipFill>
        <p:spPr>
          <a:xfrm>
            <a:off x="5429160" y="2286000"/>
            <a:ext cx="3457800" cy="380988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50004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821 – Vila dos loucos – Bélgica (6500) – populaçã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50 – Clorpromazin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57 – Imipramin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49 – Líti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57 – Clordiazepóxid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61 – Valium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291960" indent="-204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57200" y="636480"/>
            <a:ext cx="822960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écada de 50 – classificação (CID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77 – Franco Basaglia – Triest Itália (antipsiquiatria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siquiatria (se não existe loucura não pode existir hospital para loucos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1980 – hospitais psiquiátricos – reforma psiquiátric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1080" indent="-252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6840" y="642600"/>
            <a:ext cx="8472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os últimos 20 anos: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Fechamento de 70% dos leitos psiquiátrico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opularização dos Caps (1500)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Lucida Sans Unicode"/>
              </a:rPr>
              <a:t>Caps I, II, III, AD, infantil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m 1941 – 5,8 leitos – 10 mil hab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m 2005 – 2,5 leitos – 10 mil hab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2" descr="E:\saúde mental\depressao3.jpg"/>
          <p:cNvPicPr/>
          <p:nvPr/>
        </p:nvPicPr>
        <p:blipFill>
          <a:blip r:embed="rId1"/>
          <a:stretch/>
        </p:blipFill>
        <p:spPr>
          <a:xfrm>
            <a:off x="4357800" y="2286000"/>
            <a:ext cx="4597200" cy="4214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Hoje temos 35 mil leitos psiquiátricos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21% da população tem transtornos mentai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deal 0,45 por mil habitant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0,23 em algumas regiões; 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571680"/>
            <a:ext cx="832968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Compensar ala psiquiátrica -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(instituição inserida  no hospital geral,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internação breve) e Caps III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oença mental </a:t>
            </a:r>
            <a:r>
              <a:rPr b="0" i="1" lang="pt-BR" sz="3300" spc="-1" strike="noStrike">
                <a:solidFill>
                  <a:srgbClr val="000000"/>
                </a:solidFill>
                <a:latin typeface="Lucida Sans Unicode"/>
              </a:rPr>
              <a:t>versus </a:t>
            </a: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remédi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sicose (bipolar, esquizofrenia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endências química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Neuroses (depressão, TOC, pânico)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mência 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39480" indent="-237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Crise psicótica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squizofrenia, bipolar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epressão no idos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Abstinência e abuso de álcool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sicose por crack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Remédio </a:t>
            </a:r>
            <a:r>
              <a:rPr b="1" i="1" lang="pt-BR" sz="3300" spc="-1" strike="noStrike">
                <a:solidFill>
                  <a:srgbClr val="000000"/>
                </a:solidFill>
                <a:latin typeface="Lucida Sans Unicode"/>
              </a:rPr>
              <a:t>versus </a:t>
            </a:r>
            <a:r>
              <a:rPr b="1" lang="pt-BR" sz="3300" spc="-1" strike="noStrike">
                <a:solidFill>
                  <a:srgbClr val="000000"/>
                </a:solidFill>
                <a:latin typeface="Lucida Sans Unicode"/>
              </a:rPr>
              <a:t>internação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Mesmo sob medicação psicotizam.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ítulo 2" descr=""/>
          <p:cNvPicPr/>
          <p:nvPr/>
        </p:nvPicPr>
        <p:blipFill>
          <a:blip r:embed="rId1"/>
          <a:stretch/>
        </p:blipFill>
        <p:spPr>
          <a:xfrm>
            <a:off x="85680" y="371520"/>
            <a:ext cx="8491680" cy="120816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2" descr="E:\saúde mental\bipolar2.jpg"/>
          <p:cNvPicPr/>
          <p:nvPr/>
        </p:nvPicPr>
        <p:blipFill>
          <a:blip r:embed="rId2"/>
          <a:stretch/>
        </p:blipFill>
        <p:spPr>
          <a:xfrm>
            <a:off x="5954760" y="1143000"/>
            <a:ext cx="297504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5" descr="D:\fotos saúde\77005886.jpg"/>
          <p:cNvPicPr/>
          <p:nvPr/>
        </p:nvPicPr>
        <p:blipFill>
          <a:blip r:embed="rId1"/>
          <a:stretch/>
        </p:blipFill>
        <p:spPr>
          <a:xfrm>
            <a:off x="3929040" y="1424160"/>
            <a:ext cx="5005440" cy="500508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xcelente idéia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Socialização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Diminuição das internaçõ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Proximidade com familiares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5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300" spc="-1" strike="noStrike">
                <a:solidFill>
                  <a:srgbClr val="000000"/>
                </a:solidFill>
                <a:latin typeface="Lucida Sans Unicode"/>
              </a:rPr>
              <a:t>Equipe multidisciplinar;</a:t>
            </a: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ítulo 2" descr=""/>
          <p:cNvPicPr/>
          <p:nvPr/>
        </p:nvPicPr>
        <p:blipFill>
          <a:blip r:embed="rId2"/>
          <a:stretch/>
        </p:blipFill>
        <p:spPr>
          <a:xfrm>
            <a:off x="201600" y="353880"/>
            <a:ext cx="8491680" cy="13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0:06Z</dcterms:created>
  <dc:creator>ACER</dc:creator>
  <dc:description/>
  <dc:language>en-US</dc:language>
  <cp:lastModifiedBy>ACER</cp:lastModifiedBy>
  <dcterms:modified xsi:type="dcterms:W3CDTF">2010-04-14T00:45:41Z</dcterms:modified>
  <cp:revision>9</cp:revision>
  <dc:subject/>
  <dc:title>Dr Marcos Antonio Henning – CRM 6672 Psiquiatra pela Associação Brasileira de Psiquiatria Título de Especialista em Psiquiatria Forense – ABP </dc:title>
</cp:coreProperties>
</file>